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9305925" cy="7019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306000" cy="702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3236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5272200" y="-360"/>
            <a:ext cx="403200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2898720" y="525240"/>
            <a:ext cx="3510000" cy="263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6665400"/>
            <a:ext cx="403236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5272200" y="6665400"/>
            <a:ext cx="403200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5DD6F5-A318-4E64-A82D-87A1C3DD52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ion for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ll capabilities described are available today, but those that aren’t are on the roadma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i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ustomers decide which software to be notified about, e.g. new Portal, new JBp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ppropriate patches sent directly to custo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ustomers who register their running software will get alerts when patches affecting them are shipped. Patches will be downloaded and ready to ap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oftware distributed is certified, tested with stated product ver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artners/ISV’s/Customers will be able to connect to the network and use it as a delivery mechanism for their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aspec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Management enabled by the JON server, training today on this. Details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 ON Server will allow configuration of JBoss AS through UI or C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N will support applying patches or rolling out new versions of software received from the net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point of access for info on JEMS products, no need to search many sources separat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fication of updates and patches, know about issues soo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the JBoss ON Server as a tool to apply patches and roll out new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N Servere allows for administering JEMS products more easily, reducing manual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hat problems organizations have managing IT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that pain be hel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’ solution of offering integrated support through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rvey we conducted found a number of issu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duct information is gathered reactively, rather than proactiv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pplications typically pass through a number of environments, meaning lots of maintenance and synchro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at synchronization is typically done manually, rather than using any auto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e looked at the respondents IT processes we usually saw some variation of th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velopment needing up to date to patch/release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ots of environments needing to be kept in sync (Dev, QA, Pro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ots of different people with responsibilities for those environment, potentially using different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some more pain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inding defects in production is expensive (surprise), better to be alerted to a fix for a vendor defect in d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cesses are people intensive, needs to be more autom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ost, obviously hardware, licenses (if you’re not using JBoss!),  also peoples time spent migrating applications/synchronizing environ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ed to address the pain poi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me up with concept of “Integrated Suppor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upport should do more than answer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hould connect customers and partners and the community in a way which eases the IT p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’s vision is to enable integrated support using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AL: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keys parts of JBoss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Access: Letting people access information in a easier way than browsing the foru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ware Distribution: Getting patches and new versions of software delivered, rather than dl from sf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Management: Allow server updates and environment sync to be done without manually updating XML fi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i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er Portal: Available at network.jbo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al has search, can manage support cases, subscribe to receive updates on bugs, new ver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09F9683E-EBD6-4F24-8FA0-489E18A3DFB1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-590760" y="633888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26D82-F607-4D7C-B574-C60B6543C18C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2.png"/><Relationship Id="rId15" Type="http://schemas.openxmlformats.org/officeDocument/2006/relationships/image" Target="../media/image25.png"/><Relationship Id="rId16" Type="http://schemas.openxmlformats.org/officeDocument/2006/relationships/image" Target="../media/image26.png"/><Relationship Id="rId17" Type="http://schemas.openxmlformats.org/officeDocument/2006/relationships/image" Target="../media/image27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28.png"/><Relationship Id="rId21" Type="http://schemas.openxmlformats.org/officeDocument/2006/relationships/image" Target="../media/image9.png"/><Relationship Id="rId22" Type="http://schemas.openxmlformats.org/officeDocument/2006/relationships/slideLayout" Target="../slideLayouts/slideLayout4.xml"/><Relationship Id="rId2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10.png"/><Relationship Id="rId16" Type="http://schemas.openxmlformats.org/officeDocument/2006/relationships/image" Target="../media/image32.png"/><Relationship Id="rId17" Type="http://schemas.openxmlformats.org/officeDocument/2006/relationships/image" Target="../media/image32.png"/><Relationship Id="rId18" Type="http://schemas.openxmlformats.org/officeDocument/2006/relationships/image" Target="../media/image32.png"/><Relationship Id="rId19" Type="http://schemas.openxmlformats.org/officeDocument/2006/relationships/image" Target="../media/image32.png"/><Relationship Id="rId20" Type="http://schemas.openxmlformats.org/officeDocument/2006/relationships/image" Target="../media/image32.png"/><Relationship Id="rId21" Type="http://schemas.openxmlformats.org/officeDocument/2006/relationships/image" Target="../media/image32.png"/><Relationship Id="rId22" Type="http://schemas.openxmlformats.org/officeDocument/2006/relationships/image" Target="../media/image33.png"/><Relationship Id="rId23" Type="http://schemas.openxmlformats.org/officeDocument/2006/relationships/image" Target="../media/image32.png"/><Relationship Id="rId24" Type="http://schemas.openxmlformats.org/officeDocument/2006/relationships/image" Target="../media/image32.png"/><Relationship Id="rId25" Type="http://schemas.openxmlformats.org/officeDocument/2006/relationships/image" Target="../media/image32.png"/><Relationship Id="rId26" Type="http://schemas.openxmlformats.org/officeDocument/2006/relationships/image" Target="../media/image34.png"/><Relationship Id="rId27" Type="http://schemas.openxmlformats.org/officeDocument/2006/relationships/image" Target="../media/image35.png"/><Relationship Id="rId28" Type="http://schemas.openxmlformats.org/officeDocument/2006/relationships/image" Target="../media/image36.png"/><Relationship Id="rId29" Type="http://schemas.openxmlformats.org/officeDocument/2006/relationships/image" Target="../media/image37.png"/><Relationship Id="rId30" Type="http://schemas.openxmlformats.org/officeDocument/2006/relationships/image" Target="../media/image38.png"/><Relationship Id="rId31" Type="http://schemas.openxmlformats.org/officeDocument/2006/relationships/image" Target="../media/image39.png"/><Relationship Id="rId32" Type="http://schemas.openxmlformats.org/officeDocument/2006/relationships/image" Target="../media/image40.png"/><Relationship Id="rId33" Type="http://schemas.openxmlformats.org/officeDocument/2006/relationships/image" Target="../media/image41.png"/><Relationship Id="rId34" Type="http://schemas.openxmlformats.org/officeDocument/2006/relationships/image" Target="../media/image42.png"/><Relationship Id="rId35" Type="http://schemas.openxmlformats.org/officeDocument/2006/relationships/image" Target="../media/image3.png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2.png"/><Relationship Id="rId16" Type="http://schemas.openxmlformats.org/officeDocument/2006/relationships/image" Target="../media/image8.png"/><Relationship Id="rId17" Type="http://schemas.openxmlformats.org/officeDocument/2006/relationships/slideLayout" Target="../slideLayouts/slideLayout5.xml"/><Relationship Id="rId1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2.png"/><Relationship Id="rId15" Type="http://schemas.openxmlformats.org/officeDocument/2006/relationships/image" Target="../media/image8.pn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3.xml"/><Relationship Id="rId1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grated Support through Knowledge Access, Software Distribution and Application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oftware Distribu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95440" y="1399680"/>
            <a:ext cx="3924000" cy="46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oftware distribution defined by customer rule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tches delivered automatically based on customer system registration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etwork Package Repository available for query via command line and console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ocal Repository can be used to package and manage updates to enterprise applications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4362480" y="1871640"/>
            <a:ext cx="4686480" cy="3949560"/>
            <a:chOff x="4362480" y="1871640"/>
            <a:chExt cx="4686480" cy="3949560"/>
          </a:xfrm>
        </p:grpSpPr>
        <p:sp>
          <p:nvSpPr>
            <p:cNvPr id="270" name=""/>
            <p:cNvSpPr/>
            <p:nvPr/>
          </p:nvSpPr>
          <p:spPr>
            <a:xfrm rot="5400000">
              <a:off x="7034040" y="3128760"/>
              <a:ext cx="1206360" cy="1339920"/>
            </a:xfrm>
            <a:prstGeom prst="blockArc">
              <a:avLst>
                <a:gd name="adj1" fmla="val 13673248"/>
                <a:gd name="adj2" fmla="val 18726752"/>
                <a:gd name="adj3" fmla="val 1069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7790040" y="3571920"/>
              <a:ext cx="437760" cy="514440"/>
              <a:chOff x="7790040" y="3571920"/>
              <a:chExt cx="437760" cy="514440"/>
            </a:xfrm>
          </p:grpSpPr>
          <p:sp>
            <p:nvSpPr>
              <p:cNvPr id="272" name=""/>
              <p:cNvSpPr/>
              <p:nvPr/>
            </p:nvSpPr>
            <p:spPr>
              <a:xfrm>
                <a:off x="7930800" y="3725640"/>
                <a:ext cx="185040" cy="2098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956000" y="3750120"/>
                <a:ext cx="137880" cy="1652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74" name=""/>
              <p:cNvGrpSpPr/>
              <p:nvPr/>
            </p:nvGrpSpPr>
            <p:grpSpPr>
              <a:xfrm>
                <a:off x="7790040" y="3571920"/>
                <a:ext cx="437760" cy="514440"/>
                <a:chOff x="7790040" y="3571920"/>
                <a:chExt cx="437760" cy="51444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8056800" y="3617280"/>
                  <a:ext cx="42480" cy="10044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8103960" y="3663720"/>
                  <a:ext cx="99360" cy="9612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8138160" y="3773160"/>
                  <a:ext cx="74520" cy="3780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8139600" y="3833280"/>
                  <a:ext cx="88200" cy="3636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8111880" y="3893400"/>
                  <a:ext cx="87120" cy="9504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8069040" y="3935880"/>
                  <a:ext cx="55440" cy="9612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7935120" y="3615480"/>
                  <a:ext cx="43920" cy="10044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7845120" y="3675600"/>
                  <a:ext cx="90000" cy="8604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7822800" y="3774960"/>
                  <a:ext cx="85680" cy="435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7790040" y="3835080"/>
                  <a:ext cx="109080" cy="3924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7858800" y="3902040"/>
                  <a:ext cx="63360" cy="6408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7919640" y="3944160"/>
                  <a:ext cx="53640" cy="9612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7999920" y="3571920"/>
                  <a:ext cx="37080" cy="12240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8004240" y="3965040"/>
                  <a:ext cx="33120" cy="12132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9" name=""/>
            <p:cNvSpPr/>
            <p:nvPr/>
          </p:nvSpPr>
          <p:spPr>
            <a:xfrm>
              <a:off x="5975280" y="3309840"/>
              <a:ext cx="897120" cy="94608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5978520" y="3254400"/>
              <a:ext cx="889920" cy="1044000"/>
              <a:chOff x="5978520" y="3254400"/>
              <a:chExt cx="889920" cy="1044000"/>
            </a:xfrm>
          </p:grpSpPr>
          <p:sp>
            <p:nvSpPr>
              <p:cNvPr id="291" name=""/>
              <p:cNvSpPr/>
              <p:nvPr/>
            </p:nvSpPr>
            <p:spPr>
              <a:xfrm>
                <a:off x="6264720" y="3566520"/>
                <a:ext cx="376200" cy="4258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315840" y="3616200"/>
                <a:ext cx="280440" cy="335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93" name=""/>
              <p:cNvGrpSpPr/>
              <p:nvPr/>
            </p:nvGrpSpPr>
            <p:grpSpPr>
              <a:xfrm>
                <a:off x="5978520" y="3254400"/>
                <a:ext cx="889920" cy="1044000"/>
                <a:chOff x="5978520" y="3254400"/>
                <a:chExt cx="889920" cy="104400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6520680" y="3346560"/>
                  <a:ext cx="86400" cy="20448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6616440" y="3441240"/>
                  <a:ext cx="201960" cy="19548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686280" y="3663360"/>
                  <a:ext cx="151560" cy="7704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6688800" y="3785040"/>
                  <a:ext cx="179640" cy="7380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6633000" y="3907080"/>
                  <a:ext cx="177120" cy="19296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545520" y="3993120"/>
                  <a:ext cx="112680" cy="19548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6273360" y="3342960"/>
                  <a:ext cx="89640" cy="20448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090480" y="3465000"/>
                  <a:ext cx="182880" cy="17496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045120" y="3666600"/>
                  <a:ext cx="174600" cy="885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978520" y="3788640"/>
                  <a:ext cx="221760" cy="7992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6118560" y="3924360"/>
                  <a:ext cx="129240" cy="13032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242040" y="4010760"/>
                  <a:ext cx="109440" cy="19548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6405480" y="3254400"/>
                  <a:ext cx="75600" cy="24876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6413760" y="4052160"/>
                  <a:ext cx="67320" cy="24624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8" name=""/>
            <p:cNvSpPr/>
            <p:nvPr/>
          </p:nvSpPr>
          <p:spPr>
            <a:xfrm>
              <a:off x="5935320" y="4095720"/>
              <a:ext cx="1035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5400000">
              <a:off x="5311440" y="2676600"/>
              <a:ext cx="1855800" cy="2011320"/>
            </a:xfrm>
            <a:prstGeom prst="blockArc">
              <a:avLst>
                <a:gd name="adj1" fmla="val 13446275"/>
                <a:gd name="adj2" fmla="val 18953725"/>
                <a:gd name="adj3" fmla="val 981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34320" y="4330800"/>
              <a:ext cx="203040" cy="20304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6931080" y="2903400"/>
              <a:ext cx="217440" cy="12888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227720" y="3800520"/>
              <a:ext cx="268560" cy="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132760" y="4191120"/>
              <a:ext cx="203040" cy="20304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298000" y="3803760"/>
              <a:ext cx="268200" cy="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8131320" y="3273120"/>
              <a:ext cx="217440" cy="12852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6200000">
              <a:off x="5313240" y="2179080"/>
              <a:ext cx="3035160" cy="3286080"/>
            </a:xfrm>
            <a:prstGeom prst="blockArc">
              <a:avLst>
                <a:gd name="adj1" fmla="val 12497126"/>
                <a:gd name="adj2" fmla="val 19902874"/>
                <a:gd name="adj3" fmla="val 764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556960" y="5605560"/>
              <a:ext cx="599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759920" y="51530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29240" y="2933640"/>
              <a:ext cx="738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otif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77680" y="2314440"/>
              <a:ext cx="639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chedul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1" name="" descr=""/>
            <p:cNvPicPr/>
            <p:nvPr/>
          </p:nvPicPr>
          <p:blipFill>
            <a:blip r:embed="rId3"/>
            <a:stretch/>
          </p:blipFill>
          <p:spPr>
            <a:xfrm>
              <a:off x="5597640" y="1871640"/>
              <a:ext cx="465120" cy="49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4371840" y="3971880"/>
              <a:ext cx="663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5573880" y="5389200"/>
              <a:ext cx="609480" cy="219960"/>
              <a:chOff x="5573880" y="5389200"/>
              <a:chExt cx="609480" cy="219960"/>
            </a:xfrm>
          </p:grpSpPr>
          <p:cxnSp>
            <p:nvCxnSpPr>
              <p:cNvPr id="324" name=""/>
              <p:cNvCxnSpPr/>
              <p:nvPr/>
            </p:nvCxnSpPr>
            <p:spPr>
              <a:xfrm>
                <a:off x="5688720" y="5491440"/>
                <a:ext cx="3783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25" name=""/>
              <p:cNvCxnSpPr/>
              <p:nvPr/>
            </p:nvCxnSpPr>
            <p:spPr>
              <a:xfrm flipH="1" flipV="1" rot="5400000">
                <a:off x="5952240" y="5382000"/>
                <a:ext cx="23040" cy="304920"/>
              </a:xfrm>
              <a:prstGeom prst="bentConnector3">
                <a:avLst>
                  <a:gd name="adj1" fmla="val -257142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pic>
            <p:nvPicPr>
              <p:cNvPr id="32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73880" y="541656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888160" y="541764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8" name="" descr=""/>
              <p:cNvPicPr/>
              <p:nvPr/>
            </p:nvPicPr>
            <p:blipFill>
              <a:blip r:embed="rId6"/>
              <a:stretch/>
            </p:blipFill>
            <p:spPr>
              <a:xfrm rot="10800000">
                <a:off x="6027840" y="541656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9" name="" descr=""/>
              <p:cNvPicPr/>
              <p:nvPr/>
            </p:nvPicPr>
            <p:blipFill>
              <a:blip r:embed="rId7"/>
              <a:stretch/>
            </p:blipFill>
            <p:spPr>
              <a:xfrm rot="2700000">
                <a:off x="5736240" y="542124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0" name=""/>
            <p:cNvSpPr/>
            <p:nvPr/>
          </p:nvSpPr>
          <p:spPr>
            <a:xfrm flipH="1" flipV="1">
              <a:off x="5968800" y="2342880"/>
              <a:ext cx="88920" cy="15228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flipV="1">
              <a:off x="5238720" y="2908440"/>
              <a:ext cx="184320" cy="13320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4957560" y="3809880"/>
              <a:ext cx="245880" cy="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5222880" y="4626000"/>
              <a:ext cx="239760" cy="14436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5936760" y="5135400"/>
              <a:ext cx="111240" cy="23976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5" name="" descr=""/>
            <p:cNvPicPr/>
            <p:nvPr/>
          </p:nvPicPr>
          <p:blipFill>
            <a:blip r:embed="rId8"/>
            <a:stretch/>
          </p:blipFill>
          <p:spPr>
            <a:xfrm>
              <a:off x="7391520" y="342900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" descr=""/>
            <p:cNvPicPr/>
            <p:nvPr/>
          </p:nvPicPr>
          <p:blipFill>
            <a:blip r:embed="rId9"/>
            <a:stretch/>
          </p:blipFill>
          <p:spPr>
            <a:xfrm>
              <a:off x="7086600" y="243828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7173000" y="2940120"/>
              <a:ext cx="67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nterpris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ustome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393320" y="4038480"/>
              <a:ext cx="566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rtne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9" name="" descr=""/>
            <p:cNvPicPr/>
            <p:nvPr/>
          </p:nvPicPr>
          <p:blipFill>
            <a:blip r:embed="rId10"/>
            <a:stretch/>
          </p:blipFill>
          <p:spPr>
            <a:xfrm>
              <a:off x="8381880" y="3048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" descr=""/>
            <p:cNvPicPr/>
            <p:nvPr/>
          </p:nvPicPr>
          <p:blipFill>
            <a:blip r:embed="rId11"/>
            <a:stretch/>
          </p:blipFill>
          <p:spPr>
            <a:xfrm>
              <a:off x="8610480" y="365760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" descr=""/>
            <p:cNvPicPr/>
            <p:nvPr/>
          </p:nvPicPr>
          <p:blipFill>
            <a:blip r:embed="rId12"/>
            <a:stretch/>
          </p:blipFill>
          <p:spPr>
            <a:xfrm>
              <a:off x="8305920" y="434340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8324640" y="332100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535960" y="393048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231040" y="461628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7086600" y="4419720"/>
              <a:ext cx="547560" cy="609120"/>
              <a:chOff x="7086600" y="4419720"/>
              <a:chExt cx="547560" cy="609120"/>
            </a:xfrm>
          </p:grpSpPr>
          <p:pic>
            <p:nvPicPr>
              <p:cNvPr id="346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207920" y="4419720"/>
                <a:ext cx="425880" cy="42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7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7086600" y="4480560"/>
                <a:ext cx="547560" cy="548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48" name=""/>
            <p:cNvSpPr/>
            <p:nvPr/>
          </p:nvSpPr>
          <p:spPr>
            <a:xfrm>
              <a:off x="7274880" y="4967280"/>
              <a:ext cx="346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SV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9" name=""/>
            <p:cNvGrpSpPr/>
            <p:nvPr/>
          </p:nvGrpSpPr>
          <p:grpSpPr>
            <a:xfrm>
              <a:off x="4621320" y="2322360"/>
              <a:ext cx="686880" cy="609480"/>
              <a:chOff x="4621320" y="2322360"/>
              <a:chExt cx="686880" cy="609480"/>
            </a:xfrm>
          </p:grpSpPr>
          <p:pic>
            <p:nvPicPr>
              <p:cNvPr id="35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4684680" y="2376360"/>
                <a:ext cx="555480" cy="55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621320" y="2544480"/>
                <a:ext cx="229320" cy="229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2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4843440" y="2322360"/>
                <a:ext cx="243000" cy="2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3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5092920" y="2529720"/>
                <a:ext cx="215280" cy="215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54" name="" descr=""/>
            <p:cNvPicPr/>
            <p:nvPr/>
          </p:nvPicPr>
          <p:blipFill>
            <a:blip r:embed="rId19"/>
            <a:stretch/>
          </p:blipFill>
          <p:spPr>
            <a:xfrm>
              <a:off x="4362480" y="3463920"/>
              <a:ext cx="549360" cy="549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5" name=""/>
            <p:cNvGrpSpPr/>
            <p:nvPr/>
          </p:nvGrpSpPr>
          <p:grpSpPr>
            <a:xfrm>
              <a:off x="4737240" y="4692600"/>
              <a:ext cx="466560" cy="466920"/>
              <a:chOff x="4737240" y="4692600"/>
              <a:chExt cx="466560" cy="466920"/>
            </a:xfrm>
          </p:grpSpPr>
          <p:pic>
            <p:nvPicPr>
              <p:cNvPr id="356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737240" y="4692600"/>
                <a:ext cx="466560" cy="46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7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4849560" y="4832280"/>
                <a:ext cx="237600" cy="237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pplication Managemen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95440" y="1274760"/>
            <a:ext cx="3924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ministration, Monitoring and Advanced managem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es JBoss AS configuration, management and supervision much more effective in large deployment scenario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plified patching, migration, update of JBoss AS nodes, clusters and domai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tional non-stop upgrade and patch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8092800" y="3935520"/>
            <a:ext cx="473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4654080" y="1720800"/>
            <a:ext cx="3799440" cy="3767760"/>
            <a:chOff x="4654080" y="1720800"/>
            <a:chExt cx="3799440" cy="3767760"/>
          </a:xfrm>
        </p:grpSpPr>
        <p:grpSp>
          <p:nvGrpSpPr>
            <p:cNvPr id="362" name=""/>
            <p:cNvGrpSpPr/>
            <p:nvPr/>
          </p:nvGrpSpPr>
          <p:grpSpPr>
            <a:xfrm>
              <a:off x="5067360" y="2174040"/>
              <a:ext cx="2892960" cy="2903040"/>
              <a:chOff x="5067360" y="2174040"/>
              <a:chExt cx="2892960" cy="2903040"/>
            </a:xfrm>
          </p:grpSpPr>
          <p:cxnSp>
            <p:nvCxnSpPr>
              <p:cNvPr id="363" name=""/>
              <p:cNvCxnSpPr>
                <a:stCxn id="364" idx="0"/>
              </p:cNvCxnSpPr>
              <p:nvPr/>
            </p:nvCxnSpPr>
            <p:spPr>
              <a:xfrm>
                <a:off x="7526160" y="3808080"/>
                <a:ext cx="349200" cy="5508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65" name=""/>
              <p:cNvCxnSpPr>
                <a:stCxn id="364" idx="1"/>
              </p:cNvCxnSpPr>
              <p:nvPr/>
            </p:nvCxnSpPr>
            <p:spPr>
              <a:xfrm flipV="1">
                <a:off x="7334280" y="2840400"/>
                <a:ext cx="308880" cy="20340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66" name=""/>
              <p:cNvCxnSpPr>
                <a:stCxn id="364" idx="2"/>
              </p:cNvCxnSpPr>
              <p:nvPr/>
            </p:nvCxnSpPr>
            <p:spPr>
              <a:xfrm flipV="1">
                <a:off x="6674760" y="2279880"/>
                <a:ext cx="79200" cy="32976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sp>
            <p:nvSpPr>
              <p:cNvPr id="364" name=""/>
              <p:cNvSpPr/>
              <p:nvPr/>
            </p:nvSpPr>
            <p:spPr>
              <a:xfrm rot="3279000">
                <a:off x="5464080" y="2596320"/>
                <a:ext cx="2099520" cy="2057760"/>
              </a:xfrm>
              <a:prstGeom prst="blockArc">
                <a:avLst>
                  <a:gd name="adj1" fmla="val 13494928"/>
                  <a:gd name="adj2" fmla="val 18905072"/>
                  <a:gd name="adj3" fmla="val 1185"/>
                </a:avLst>
              </a:prstGeom>
              <a:solidFill>
                <a:srgbClr val="0099cc"/>
              </a:solidFill>
              <a:ln w="324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5079960" y="2198160"/>
              <a:ext cx="2867760" cy="2854800"/>
              <a:chOff x="5079960" y="2198160"/>
              <a:chExt cx="2867760" cy="2854800"/>
            </a:xfrm>
          </p:grpSpPr>
          <p:cxnSp>
            <p:nvCxnSpPr>
              <p:cNvPr id="368" name=""/>
              <p:cNvCxnSpPr>
                <a:endCxn id="369" idx="0"/>
              </p:cNvCxnSpPr>
              <p:nvPr/>
            </p:nvCxnSpPr>
            <p:spPr>
              <a:xfrm>
                <a:off x="5362560" y="2912400"/>
                <a:ext cx="276480" cy="17136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70" name=""/>
              <p:cNvCxnSpPr>
                <a:stCxn id="369" idx="1"/>
              </p:cNvCxnSpPr>
              <p:nvPr/>
            </p:nvCxnSpPr>
            <p:spPr>
              <a:xfrm flipH="1" flipV="1">
                <a:off x="6212880" y="2296800"/>
                <a:ext cx="82800" cy="32364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71" name=""/>
              <p:cNvCxnSpPr>
                <a:stCxn id="369" idx="2"/>
              </p:cNvCxnSpPr>
              <p:nvPr/>
            </p:nvCxnSpPr>
            <p:spPr>
              <a:xfrm flipH="1">
                <a:off x="5195520" y="3876120"/>
                <a:ext cx="319320" cy="7452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sp>
            <p:nvSpPr>
              <p:cNvPr id="369" name=""/>
              <p:cNvSpPr/>
              <p:nvPr/>
            </p:nvSpPr>
            <p:spPr>
              <a:xfrm rot="18110400">
                <a:off x="5484600" y="2576520"/>
                <a:ext cx="2057760" cy="2097720"/>
              </a:xfrm>
              <a:prstGeom prst="blockArc">
                <a:avLst>
                  <a:gd name="adj1" fmla="val 13413236"/>
                  <a:gd name="adj2" fmla="val 18986764"/>
                  <a:gd name="adj3" fmla="val 968"/>
                </a:avLst>
              </a:prstGeom>
              <a:solidFill>
                <a:srgbClr val="0099cc"/>
              </a:solidFill>
              <a:ln w="324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72" name=""/>
            <p:cNvCxnSpPr/>
            <p:nvPr/>
          </p:nvCxnSpPr>
          <p:spPr>
            <a:xfrm flipV="1">
              <a:off x="6059880" y="4598640"/>
              <a:ext cx="104040" cy="322200"/>
            </a:xfrm>
            <a:prstGeom prst="straightConnector1">
              <a:avLst/>
            </a:prstGeom>
            <a:ln w="19080">
              <a:solidFill>
                <a:srgbClr val="0099cc"/>
              </a:solidFill>
              <a:miter/>
            </a:ln>
          </p:spPr>
        </p:cxnSp>
        <p:cxnSp>
          <p:nvCxnSpPr>
            <p:cNvPr id="373" name=""/>
            <p:cNvCxnSpPr/>
            <p:nvPr/>
          </p:nvCxnSpPr>
          <p:spPr>
            <a:xfrm flipH="1" flipV="1">
              <a:off x="6950160" y="4559400"/>
              <a:ext cx="159840" cy="306000"/>
            </a:xfrm>
            <a:prstGeom prst="straightConnector1">
              <a:avLst/>
            </a:prstGeom>
            <a:ln w="19080">
              <a:solidFill>
                <a:srgbClr val="0099cc"/>
              </a:solidFill>
              <a:miter/>
            </a:ln>
          </p:spPr>
        </p:cxnSp>
        <p:sp>
          <p:nvSpPr>
            <p:cNvPr id="374" name=""/>
            <p:cNvSpPr/>
            <p:nvPr/>
          </p:nvSpPr>
          <p:spPr>
            <a:xfrm rot="9657600">
              <a:off x="5487480" y="2576520"/>
              <a:ext cx="2059200" cy="2098800"/>
            </a:xfrm>
            <a:prstGeom prst="blockArc">
              <a:avLst>
                <a:gd name="adj1" fmla="val 13791782"/>
                <a:gd name="adj2" fmla="val 18608218"/>
                <a:gd name="adj3" fmla="val 1116"/>
              </a:avLst>
            </a:prstGeom>
            <a:solidFill>
              <a:srgbClr val="0099cc"/>
            </a:solidFill>
            <a:ln w="324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5" name="" descr=""/>
            <p:cNvPicPr/>
            <p:nvPr/>
          </p:nvPicPr>
          <p:blipFill>
            <a:blip r:embed="rId1"/>
            <a:stretch/>
          </p:blipFill>
          <p:spPr>
            <a:xfrm>
              <a:off x="6981840" y="4840200"/>
              <a:ext cx="442800" cy="414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6" name=""/>
            <p:cNvGrpSpPr/>
            <p:nvPr/>
          </p:nvGrpSpPr>
          <p:grpSpPr>
            <a:xfrm>
              <a:off x="5027760" y="4233960"/>
              <a:ext cx="823680" cy="749160"/>
              <a:chOff x="5027760" y="4233960"/>
              <a:chExt cx="823680" cy="749160"/>
            </a:xfrm>
          </p:grpSpPr>
          <p:pic>
            <p:nvPicPr>
              <p:cNvPr id="37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027760" y="4233960"/>
                <a:ext cx="823680" cy="74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8" name=""/>
              <p:cNvSpPr/>
              <p:nvPr/>
            </p:nvSpPr>
            <p:spPr>
              <a:xfrm>
                <a:off x="5126040" y="4327200"/>
                <a:ext cx="598680" cy="36864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7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137200" y="4523400"/>
                <a:ext cx="18972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31400" y="4523400"/>
                <a:ext cx="18972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132160" y="4325760"/>
                <a:ext cx="19008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526360" y="4331520"/>
                <a:ext cx="190080" cy="17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223960" y="4321800"/>
                <a:ext cx="424440" cy="39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84" name=""/>
            <p:cNvSpPr/>
            <p:nvPr/>
          </p:nvSpPr>
          <p:spPr>
            <a:xfrm>
              <a:off x="7554960" y="5024520"/>
              <a:ext cx="8010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dministr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742520" y="2187720"/>
              <a:ext cx="502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Monito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753080" y="2205000"/>
              <a:ext cx="628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dvance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698240" y="4710240"/>
              <a:ext cx="503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luster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52240" y="5151600"/>
              <a:ext cx="703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nfigur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125320" y="4948200"/>
              <a:ext cx="640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JON Serve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0" name="" descr=""/>
            <p:cNvPicPr/>
            <p:nvPr/>
          </p:nvPicPr>
          <p:blipFill>
            <a:blip r:embed="rId8"/>
            <a:stretch/>
          </p:blipFill>
          <p:spPr>
            <a:xfrm>
              <a:off x="6284880" y="3389400"/>
              <a:ext cx="503280" cy="490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1" name=""/>
            <p:cNvGrpSpPr/>
            <p:nvPr/>
          </p:nvGrpSpPr>
          <p:grpSpPr>
            <a:xfrm>
              <a:off x="5828760" y="2908440"/>
              <a:ext cx="1420920" cy="1421280"/>
              <a:chOff x="5828760" y="2908440"/>
              <a:chExt cx="1420920" cy="1421280"/>
            </a:xfrm>
          </p:grpSpPr>
          <p:sp>
            <p:nvSpPr>
              <p:cNvPr id="392" name=""/>
              <p:cNvSpPr/>
              <p:nvPr/>
            </p:nvSpPr>
            <p:spPr>
              <a:xfrm rot="6100200">
                <a:off x="6034680" y="3117240"/>
                <a:ext cx="1008360" cy="100296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20422800">
                <a:off x="6035400" y="3110760"/>
                <a:ext cx="1006920" cy="100620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2842800">
                <a:off x="6034680" y="3117240"/>
                <a:ext cx="1008360" cy="100296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2800800">
                <a:off x="6141960" y="3238920"/>
                <a:ext cx="780480" cy="774360"/>
              </a:xfrm>
              <a:prstGeom prst="blockArc">
                <a:avLst>
                  <a:gd name="adj1" fmla="val 3002428"/>
                  <a:gd name="adj2" fmla="val 7797572"/>
                  <a:gd name="adj3" fmla="val 5662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13287600">
                <a:off x="6034680" y="3116880"/>
                <a:ext cx="1008360" cy="100296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17014200">
                <a:off x="6033960" y="3112560"/>
                <a:ext cx="1008360" cy="101232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17064600">
                <a:off x="6155640" y="3227760"/>
                <a:ext cx="780480" cy="779760"/>
              </a:xfrm>
              <a:prstGeom prst="blockArc">
                <a:avLst>
                  <a:gd name="adj1" fmla="val 3024521"/>
                  <a:gd name="adj2" fmla="val 7775479"/>
                  <a:gd name="adj3" fmla="val 561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9963000">
                <a:off x="6035760" y="3111480"/>
                <a:ext cx="1004760" cy="101556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9995400">
                <a:off x="6140520" y="3215520"/>
                <a:ext cx="777960" cy="782640"/>
              </a:xfrm>
              <a:prstGeom prst="blockArc">
                <a:avLst>
                  <a:gd name="adj1" fmla="val 3025150"/>
                  <a:gd name="adj2" fmla="val 7774850"/>
                  <a:gd name="adj3" fmla="val 5875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"/>
            <p:cNvSpPr/>
            <p:nvPr/>
          </p:nvSpPr>
          <p:spPr>
            <a:xfrm>
              <a:off x="5718600" y="5288040"/>
              <a:ext cx="650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eploymen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768560" y="2573280"/>
              <a:ext cx="543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4689360" y="2794320"/>
              <a:ext cx="669600" cy="243000"/>
              <a:chOff x="4689360" y="2794320"/>
              <a:chExt cx="669600" cy="243000"/>
            </a:xfrm>
          </p:grpSpPr>
          <p:cxnSp>
            <p:nvCxnSpPr>
              <p:cNvPr id="404" name=""/>
              <p:cNvCxnSpPr/>
              <p:nvPr/>
            </p:nvCxnSpPr>
            <p:spPr>
              <a:xfrm>
                <a:off x="4816080" y="2907000"/>
                <a:ext cx="4161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05" name=""/>
              <p:cNvCxnSpPr/>
              <p:nvPr/>
            </p:nvCxnSpPr>
            <p:spPr>
              <a:xfrm flipH="1" flipV="1" rot="5400000">
                <a:off x="5105880" y="2787840"/>
                <a:ext cx="25560" cy="334800"/>
              </a:xfrm>
              <a:prstGeom prst="bentConnector3">
                <a:avLst>
                  <a:gd name="adj1" fmla="val -257142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pic>
            <p:nvPicPr>
              <p:cNvPr id="406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689360" y="282420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7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034600" y="282528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8" name="" descr=""/>
              <p:cNvPicPr/>
              <p:nvPr/>
            </p:nvPicPr>
            <p:blipFill>
              <a:blip r:embed="rId11"/>
              <a:stretch/>
            </p:blipFill>
            <p:spPr>
              <a:xfrm rot="10800000">
                <a:off x="5187960" y="282384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9" name="" descr=""/>
              <p:cNvPicPr/>
              <p:nvPr/>
            </p:nvPicPr>
            <p:blipFill>
              <a:blip r:embed="rId12"/>
              <a:stretch/>
            </p:blipFill>
            <p:spPr>
              <a:xfrm rot="2700000">
                <a:off x="4866480" y="2830320"/>
                <a:ext cx="172800" cy="171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10" name="" descr=""/>
            <p:cNvPicPr/>
            <p:nvPr/>
          </p:nvPicPr>
          <p:blipFill>
            <a:blip r:embed="rId13"/>
            <a:stretch/>
          </p:blipFill>
          <p:spPr>
            <a:xfrm>
              <a:off x="7634160" y="2536920"/>
              <a:ext cx="4143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7756200" y="2887560"/>
              <a:ext cx="479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ler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654080" y="3581280"/>
              <a:ext cx="6166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plica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865200" y="2152800"/>
              <a:ext cx="561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por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4" name="" descr=""/>
            <p:cNvPicPr/>
            <p:nvPr/>
          </p:nvPicPr>
          <p:blipFill>
            <a:blip r:embed="rId14"/>
            <a:stretch/>
          </p:blipFill>
          <p:spPr>
            <a:xfrm>
              <a:off x="5805360" y="2008080"/>
              <a:ext cx="371520" cy="3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5572800" y="2360520"/>
              <a:ext cx="552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napsho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6" name=""/>
            <p:cNvCxnSpPr>
              <a:stCxn id="374" idx="0"/>
            </p:cNvCxnSpPr>
            <p:nvPr/>
          </p:nvCxnSpPr>
          <p:spPr>
            <a:xfrm>
              <a:off x="7397280" y="4160880"/>
              <a:ext cx="299160" cy="165600"/>
            </a:xfrm>
            <a:prstGeom prst="straightConnector1">
              <a:avLst/>
            </a:prstGeom>
            <a:ln w="12600">
              <a:solidFill>
                <a:srgbClr val="0099cc"/>
              </a:solidFill>
              <a:miter/>
            </a:ln>
          </p:spPr>
        </p:cxnSp>
        <p:sp>
          <p:nvSpPr>
            <p:cNvPr id="417" name=""/>
            <p:cNvSpPr/>
            <p:nvPr/>
          </p:nvSpPr>
          <p:spPr>
            <a:xfrm>
              <a:off x="6038640" y="39639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8" name="" descr=""/>
            <p:cNvPicPr/>
            <p:nvPr/>
          </p:nvPicPr>
          <p:blipFill>
            <a:blip r:embed="rId15"/>
            <a:stretch/>
          </p:blipFill>
          <p:spPr>
            <a:xfrm>
              <a:off x="5867280" y="4952880"/>
              <a:ext cx="381240" cy="381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9" name=""/>
            <p:cNvGrpSpPr/>
            <p:nvPr/>
          </p:nvGrpSpPr>
          <p:grpSpPr>
            <a:xfrm>
              <a:off x="4729320" y="3767040"/>
              <a:ext cx="236160" cy="206280"/>
              <a:chOff x="4729320" y="3767040"/>
              <a:chExt cx="236160" cy="206280"/>
            </a:xfrm>
          </p:grpSpPr>
          <p:pic>
            <p:nvPicPr>
              <p:cNvPr id="420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776840" y="3767040"/>
                <a:ext cx="15300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1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4729320" y="382068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2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4812840" y="382068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23" name=""/>
            <p:cNvGrpSpPr/>
            <p:nvPr/>
          </p:nvGrpSpPr>
          <p:grpSpPr>
            <a:xfrm>
              <a:off x="4943520" y="3890880"/>
              <a:ext cx="236160" cy="206280"/>
              <a:chOff x="4943520" y="3890880"/>
              <a:chExt cx="236160" cy="206280"/>
            </a:xfrm>
          </p:grpSpPr>
          <p:pic>
            <p:nvPicPr>
              <p:cNvPr id="424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4991040" y="3890880"/>
                <a:ext cx="153000" cy="15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5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943520" y="394452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6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5027040" y="394452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27" name="" descr=""/>
            <p:cNvPicPr/>
            <p:nvPr/>
          </p:nvPicPr>
          <p:blipFill>
            <a:blip r:embed="rId22"/>
            <a:stretch/>
          </p:blipFill>
          <p:spPr>
            <a:xfrm rot="21341400">
              <a:off x="4800240" y="375552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28" name=""/>
            <p:cNvGrpSpPr/>
            <p:nvPr/>
          </p:nvGrpSpPr>
          <p:grpSpPr>
            <a:xfrm>
              <a:off x="7656480" y="4260960"/>
              <a:ext cx="544320" cy="475920"/>
              <a:chOff x="7656480" y="4260960"/>
              <a:chExt cx="544320" cy="475920"/>
            </a:xfrm>
          </p:grpSpPr>
          <p:pic>
            <p:nvPicPr>
              <p:cNvPr id="429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7765920" y="4260960"/>
                <a:ext cx="352080" cy="351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0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7656480" y="4384800"/>
                <a:ext cx="351720" cy="352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1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7849080" y="4384800"/>
                <a:ext cx="351720" cy="352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32" name="" descr=""/>
            <p:cNvPicPr/>
            <p:nvPr/>
          </p:nvPicPr>
          <p:blipFill>
            <a:blip r:embed="rId26"/>
            <a:stretch/>
          </p:blipFill>
          <p:spPr>
            <a:xfrm>
              <a:off x="6924600" y="1720800"/>
              <a:ext cx="473040" cy="473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3" name=""/>
            <p:cNvGrpSpPr/>
            <p:nvPr/>
          </p:nvGrpSpPr>
          <p:grpSpPr>
            <a:xfrm>
              <a:off x="7931160" y="3495600"/>
              <a:ext cx="522360" cy="476280"/>
              <a:chOff x="7931160" y="3495600"/>
              <a:chExt cx="522360" cy="476280"/>
            </a:xfrm>
          </p:grpSpPr>
          <p:pic>
            <p:nvPicPr>
              <p:cNvPr id="434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8078760" y="3533400"/>
                <a:ext cx="13104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5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8166960" y="3561480"/>
                <a:ext cx="2340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6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8106480" y="3601080"/>
                <a:ext cx="1962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7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7973280" y="3654000"/>
                <a:ext cx="229320" cy="20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8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8212680" y="3615120"/>
                <a:ext cx="240840" cy="28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9" name="" descr=""/>
              <p:cNvPicPr/>
              <p:nvPr/>
            </p:nvPicPr>
            <p:blipFill>
              <a:blip r:embed="rId32"/>
              <a:stretch/>
            </p:blipFill>
            <p:spPr>
              <a:xfrm rot="979800">
                <a:off x="7978680" y="3785760"/>
                <a:ext cx="18936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0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8274240" y="3817080"/>
                <a:ext cx="133200" cy="141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1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8122320" y="3771000"/>
                <a:ext cx="216720" cy="200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2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7931160" y="3495600"/>
                <a:ext cx="245520" cy="261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ummary of JBoss ON Benefi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87080" y="1246320"/>
            <a:ext cx="8001000" cy="50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mproved efficiency for development, qa, security and sys op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Your team can stay up to date without having to scour forums and wait for emails from the community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ntegrated knowledg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cross forums, wikis, documentation, code, javadocs, tutorials and cas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Up to date knowledge of patches, updates, and upgrad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JBoss Operations Network™ provides you proactive notification of patches relative to your applications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 standard way to apply patches and software across your middleware.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patches will be shipped in a standard format with a uniform mechanism to deploy against clust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ffective mechanisms to manage your enterprise middlewar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 By leveraging the JBoss Operations Network administration features you can control configuration and deployments across clust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nsistency across your topology.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e the administration to validate that your environments are current and contain matching configuration and patch level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46360" y="0"/>
            <a:ext cx="679608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T pain poi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can the pain be ease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grated support with JBoss Operations Network (JBoss ON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nowledge ac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ftware distribu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plication management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31680" y="-360"/>
            <a:ext cx="68245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nterprise Customers Q &amp; 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get product information from your commercial products and your open source products?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Subscribed to mailing list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Check the website occasionally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ord-of-mouth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When we have a problem we check for a new versio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many of the environments will your application be deployed to before it goes to production?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1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2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3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4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e) mor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synchronize patch levels, configuration information within a J2EE Cluster?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Not Applicable, we don’t use a cluste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Our configurations and machines vary, they are not in synch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e try to keep everything in synch manually, by applying updates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To keep things in synch we use _________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1143000"/>
            <a:ext cx="830556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get product information from your commercial products and your open source products?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Subscribed to mailing lis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Check the website occasionally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ord-of-mouth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d) When we have a problem we check for a new vers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many of the environments will your application be deployed to before it goes to production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1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2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3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d) 4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e) mo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synchronize patch levels, configuration information within a J2EE Cluster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Not Applicable, we don’t use a clus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Our configurations and machines vary, they are not in synch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c) We try to keep everything in synch manually, by applying update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To keep things in synch we use _________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14400" y="5268960"/>
            <a:ext cx="2236680" cy="1276200"/>
          </a:xfrm>
          <a:prstGeom prst="wedgeEllipseCallout">
            <a:avLst>
              <a:gd name="adj1" fmla="val 76328"/>
              <a:gd name="adj2" fmla="val -86319"/>
            </a:avLst>
          </a:prstGeom>
          <a:solidFill>
            <a:srgbClr val="2aa6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erous deployments, numerous groups using and approving the distribution of the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080" y="2971440"/>
            <a:ext cx="3657240" cy="1447920"/>
            <a:chOff x="685080" y="2971440"/>
            <a:chExt cx="3657240" cy="1447920"/>
          </a:xfrm>
        </p:grpSpPr>
        <p:sp>
          <p:nvSpPr>
            <p:cNvPr id="100" name=""/>
            <p:cNvSpPr/>
            <p:nvPr/>
          </p:nvSpPr>
          <p:spPr>
            <a:xfrm rot="5400000">
              <a:off x="2639160" y="2716200"/>
              <a:ext cx="1236960" cy="2169000"/>
            </a:xfrm>
            <a:prstGeom prst="uturnArrow">
              <a:avLst/>
            </a:prstGeom>
            <a:solidFill>
              <a:srgbClr val="cc9900">
                <a:alpha val="5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 rot="5400000">
              <a:off x="1239120" y="2416680"/>
              <a:ext cx="1274760" cy="2383560"/>
            </a:xfrm>
            <a:prstGeom prst="uturnArrow">
              <a:avLst/>
            </a:prstGeom>
            <a:solidFill>
              <a:srgbClr val="cc9900">
                <a:alpha val="5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01360" y="-360"/>
            <a:ext cx="710748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uild-to-Production in large IT org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9092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2666880"/>
            <a:ext cx="4343400" cy="1752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341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 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2448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7724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0773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2819520"/>
            <a:ext cx="5334120" cy="1447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 Ops Mana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760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33920" y="4038480"/>
            <a:ext cx="304560" cy="1447920"/>
          </a:xfrm>
          <a:prstGeom prst="upArrow">
            <a:avLst>
              <a:gd name="adj1" fmla="val 50000"/>
              <a:gd name="adj2" fmla="val 1188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4038480"/>
            <a:ext cx="304920" cy="1447920"/>
          </a:xfrm>
          <a:prstGeom prst="upArrow">
            <a:avLst>
              <a:gd name="adj1" fmla="val 50000"/>
              <a:gd name="adj2" fmla="val 11871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5356080"/>
            <a:ext cx="1524240" cy="358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A and Client D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2763720" y="2209680"/>
            <a:ext cx="533520" cy="10670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92280" y="2128680"/>
            <a:ext cx="1143000" cy="304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284120"/>
            <a:ext cx="1719360" cy="987480"/>
          </a:xfrm>
          <a:prstGeom prst="wedgeEllipseCallout">
            <a:avLst>
              <a:gd name="adj1" fmla="val 73453"/>
              <a:gd name="adj2" fmla="val 10434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ed to stay current with my third party compon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867280" y="1371600"/>
            <a:ext cx="1739880" cy="1052640"/>
          </a:xfrm>
          <a:prstGeom prst="wedgeEllipseCallout">
            <a:avLst>
              <a:gd name="adj1" fmla="val -27736"/>
              <a:gd name="adj2" fmla="val 109277"/>
            </a:avLst>
          </a:prstGeom>
          <a:solidFill>
            <a:srgbClr val="8f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ed to manage and administer numerous shared environ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57600" y="4572000"/>
            <a:ext cx="4952880" cy="609480"/>
          </a:xfrm>
          <a:prstGeom prst="rect">
            <a:avLst/>
          </a:prstGeom>
          <a:solidFill>
            <a:srgbClr val="cc9900">
              <a:alpha val="4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576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ore IT Pain Poin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ystem/Vendor Defects later in the lifecyc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fects found in production have HIGH financial impacts to the busines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endors have different mechanism for pushing patch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 mechanism to keep environments in sync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A, Security, Tech Ops, Development organizationally separa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 heavy for moving from development through produ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roval process has to go through multiple group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ple levels of testing (regression expensiv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ared Resources ( Systems and Resources 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verwhelmed technical operations grou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ocked down environme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fect resolution in clustered environments takes a lot of tim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ystem resources and configuration conflic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ST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ardware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eople management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ddleware licensing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egrated Suppor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oked at IT Pain Points, how Software Vendors operate, and how they both integra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valuated our current offering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sulting, Training, Suppor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tending Support to be more than someone to answer your questio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upport Network connecting customers, partners and communiti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25120" y="241200"/>
            <a:ext cx="74185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roducing 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6083280" y="4876920"/>
            <a:ext cx="2908440" cy="803160"/>
          </a:xfrm>
          <a:prstGeom prst="roundRect">
            <a:avLst>
              <a:gd name="adj" fmla="val 9079"/>
            </a:avLst>
          </a:prstGeom>
          <a:solidFill>
            <a:srgbClr val="0099cc"/>
          </a:solidFill>
          <a:ln w="0">
            <a:noFill/>
          </a:ln>
          <a:effectLst>
            <a:outerShdw dist="17819" dir="2700000" blurRad="0" rotWithShape="0">
              <a:srgbClr val="005b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pplicatio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17960" y="4876920"/>
            <a:ext cx="2908080" cy="803160"/>
          </a:xfrm>
          <a:prstGeom prst="roundRect">
            <a:avLst>
              <a:gd name="adj" fmla="val 9079"/>
            </a:avLst>
          </a:prstGeom>
          <a:solidFill>
            <a:srgbClr val="33cc33"/>
          </a:solidFill>
          <a:ln w="0">
            <a:noFill/>
          </a:ln>
          <a:effectLst>
            <a:outerShdw dist="17819" dir="2700000" blurRad="0" rotWithShape="0">
              <a:srgbClr val="1e79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oftware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93680" y="5756400"/>
            <a:ext cx="671220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Deliver seamless support by integrating knowledge access, software distribution and applicatio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1295280"/>
            <a:ext cx="53496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95280" y="1219320"/>
            <a:ext cx="534960" cy="355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81080" y="1295280"/>
            <a:ext cx="53352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1066680"/>
            <a:ext cx="1981080" cy="1600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514680" y="123660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27360" y="1066680"/>
            <a:ext cx="1360440" cy="10177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27360" y="1490760"/>
            <a:ext cx="1360440" cy="1019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047080" y="284940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86640" y="2340000"/>
            <a:ext cx="1471680" cy="12733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705800" y="3273480"/>
            <a:ext cx="341280" cy="253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4876920"/>
            <a:ext cx="2908440" cy="803160"/>
          </a:xfrm>
          <a:prstGeom prst="roundRect">
            <a:avLst>
              <a:gd name="adj" fmla="val 9079"/>
            </a:avLst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98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Knowledge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08200" y="1406520"/>
            <a:ext cx="3059280" cy="2290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Bo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214960" y="2424240"/>
            <a:ext cx="2263680" cy="1697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V/O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54240" y="2340000"/>
            <a:ext cx="2266920" cy="16970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erpr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987800" y="3017880"/>
            <a:ext cx="2264040" cy="169848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99040" y="4037040"/>
            <a:ext cx="102240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251840" y="3103560"/>
            <a:ext cx="1474560" cy="12733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478640" y="3951360"/>
            <a:ext cx="3412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047080" y="4037040"/>
            <a:ext cx="338040" cy="253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499600" y="3951360"/>
            <a:ext cx="3394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47080" y="310356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46800" y="4121280"/>
            <a:ext cx="102096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00280" y="3187800"/>
            <a:ext cx="102060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73400" y="3443400"/>
            <a:ext cx="1020600" cy="6778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00560" y="1490760"/>
            <a:ext cx="3412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1000" y="1676520"/>
            <a:ext cx="79200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563840" y="1924200"/>
            <a:ext cx="6219720" cy="3289320"/>
            <a:chOff x="1563840" y="1924200"/>
            <a:chExt cx="6219720" cy="3289320"/>
          </a:xfrm>
        </p:grpSpPr>
        <p:sp>
          <p:nvSpPr>
            <p:cNvPr id="162" name=""/>
            <p:cNvSpPr/>
            <p:nvPr/>
          </p:nvSpPr>
          <p:spPr>
            <a:xfrm>
              <a:off x="1563840" y="2575080"/>
              <a:ext cx="221616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KNOWLED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C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64000" y="2575080"/>
              <a:ext cx="221940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OFTWARE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ISTRIBU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67400" y="2575080"/>
              <a:ext cx="221616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ANAGE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" name="" descr=""/>
            <p:cNvPicPr/>
            <p:nvPr/>
          </p:nvPicPr>
          <p:blipFill>
            <a:blip r:embed="rId1"/>
            <a:stretch/>
          </p:blipFill>
          <p:spPr>
            <a:xfrm>
              <a:off x="5227560" y="2193840"/>
              <a:ext cx="93024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1800360" y="4754520"/>
              <a:ext cx="194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acto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30360" y="4754520"/>
              <a:ext cx="1035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268680" y="475452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43680" y="1924200"/>
              <a:ext cx="101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JON Ser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977560" y="1943280"/>
              <a:ext cx="136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ustomer Por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38800" y="2311560"/>
              <a:ext cx="676080" cy="45864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" descr=""/>
            <p:cNvPicPr/>
            <p:nvPr/>
          </p:nvPicPr>
          <p:blipFill>
            <a:blip r:embed="rId2"/>
            <a:stretch/>
          </p:blipFill>
          <p:spPr>
            <a:xfrm>
              <a:off x="5351400" y="2554200"/>
              <a:ext cx="21420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3"/>
            <a:stretch/>
          </p:blipFill>
          <p:spPr>
            <a:xfrm>
              <a:off x="5797440" y="2554200"/>
              <a:ext cx="21456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4"/>
            <a:stretch/>
          </p:blipFill>
          <p:spPr>
            <a:xfrm>
              <a:off x="5345280" y="2309760"/>
              <a:ext cx="215640" cy="2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5"/>
            <a:stretch/>
          </p:blipFill>
          <p:spPr>
            <a:xfrm>
              <a:off x="5791320" y="2316240"/>
              <a:ext cx="21564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6"/>
            <a:stretch/>
          </p:blipFill>
          <p:spPr>
            <a:xfrm>
              <a:off x="5450040" y="2303640"/>
              <a:ext cx="479160" cy="492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7" name=""/>
            <p:cNvGrpSpPr/>
            <p:nvPr/>
          </p:nvGrpSpPr>
          <p:grpSpPr>
            <a:xfrm>
              <a:off x="4343400" y="4043520"/>
              <a:ext cx="692640" cy="768600"/>
              <a:chOff x="4343400" y="4043520"/>
              <a:chExt cx="692640" cy="768600"/>
            </a:xfrm>
          </p:grpSpPr>
          <p:sp>
            <p:nvSpPr>
              <p:cNvPr id="178" name=""/>
              <p:cNvSpPr/>
              <p:nvPr/>
            </p:nvSpPr>
            <p:spPr>
              <a:xfrm>
                <a:off x="4566600" y="4272840"/>
                <a:ext cx="293040" cy="31464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9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605840" y="4309920"/>
                <a:ext cx="218520" cy="246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80" name=""/>
              <p:cNvGrpSpPr/>
              <p:nvPr/>
            </p:nvGrpSpPr>
            <p:grpSpPr>
              <a:xfrm>
                <a:off x="4343400" y="4043520"/>
                <a:ext cx="692640" cy="768600"/>
                <a:chOff x="4343400" y="4043520"/>
                <a:chExt cx="692640" cy="76860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4765680" y="4111200"/>
                  <a:ext cx="67320" cy="15048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839840" y="4181040"/>
                  <a:ext cx="156960" cy="14400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894560" y="4344840"/>
                  <a:ext cx="118080" cy="5688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4896360" y="4434480"/>
                  <a:ext cx="139680" cy="5436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4852800" y="4524120"/>
                  <a:ext cx="137880" cy="14220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784760" y="4587480"/>
                  <a:ext cx="87480" cy="14400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573080" y="4108680"/>
                  <a:ext cx="69840" cy="15048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430520" y="4198320"/>
                  <a:ext cx="142200" cy="12852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395240" y="4347000"/>
                  <a:ext cx="135720" cy="651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343400" y="4437000"/>
                  <a:ext cx="172440" cy="5868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452480" y="4537080"/>
                  <a:ext cx="100440" cy="9612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548600" y="4600440"/>
                  <a:ext cx="85320" cy="14400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675680" y="4043520"/>
                  <a:ext cx="59040" cy="18324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682160" y="4631040"/>
                  <a:ext cx="52560" cy="18108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5" name=""/>
            <p:cNvGrpSpPr/>
            <p:nvPr/>
          </p:nvGrpSpPr>
          <p:grpSpPr>
            <a:xfrm>
              <a:off x="6217560" y="3964680"/>
              <a:ext cx="982800" cy="982800"/>
              <a:chOff x="6217560" y="3964680"/>
              <a:chExt cx="982800" cy="982800"/>
            </a:xfrm>
          </p:grpSpPr>
          <p:grpSp>
            <p:nvGrpSpPr>
              <p:cNvPr id="196" name=""/>
              <p:cNvGrpSpPr/>
              <p:nvPr/>
            </p:nvGrpSpPr>
            <p:grpSpPr>
              <a:xfrm>
                <a:off x="6217560" y="3964680"/>
                <a:ext cx="982800" cy="982800"/>
                <a:chOff x="6217560" y="3964680"/>
                <a:chExt cx="982800" cy="982800"/>
              </a:xfrm>
            </p:grpSpPr>
            <p:sp>
              <p:nvSpPr>
                <p:cNvPr id="197" name=""/>
                <p:cNvSpPr/>
                <p:nvPr/>
              </p:nvSpPr>
              <p:spPr>
                <a:xfrm rot="6100200">
                  <a:off x="6360840" y="4107960"/>
                  <a:ext cx="69624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rot="20422800">
                  <a:off x="6359400" y="4104720"/>
                  <a:ext cx="69732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rot="2842800">
                  <a:off x="6360480" y="4108680"/>
                  <a:ext cx="696240" cy="69480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rot="2800800">
                  <a:off x="6434280" y="4192560"/>
                  <a:ext cx="538920" cy="536040"/>
                </a:xfrm>
                <a:prstGeom prst="blockArc">
                  <a:avLst>
                    <a:gd name="adj1" fmla="val 3002428"/>
                    <a:gd name="adj2" fmla="val 7797572"/>
                    <a:gd name="adj3" fmla="val 5662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rot="13287600">
                  <a:off x="6360840" y="4108320"/>
                  <a:ext cx="69624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rot="17014200">
                  <a:off x="6360120" y="4105080"/>
                  <a:ext cx="696240" cy="70128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rot="17064600">
                  <a:off x="6444360" y="4184280"/>
                  <a:ext cx="538920" cy="540000"/>
                </a:xfrm>
                <a:prstGeom prst="blockArc">
                  <a:avLst>
                    <a:gd name="adj1" fmla="val 3024521"/>
                    <a:gd name="adj2" fmla="val 7775479"/>
                    <a:gd name="adj3" fmla="val 561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rot="9963000">
                  <a:off x="6359760" y="4105440"/>
                  <a:ext cx="695880" cy="70128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rot="9995400">
                  <a:off x="6432480" y="4176720"/>
                  <a:ext cx="538920" cy="540360"/>
                </a:xfrm>
                <a:prstGeom prst="blockArc">
                  <a:avLst>
                    <a:gd name="adj1" fmla="val 3025150"/>
                    <a:gd name="adj2" fmla="val 7774850"/>
                    <a:gd name="adj3" fmla="val 5875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0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526440" y="4294440"/>
                <a:ext cx="349920" cy="339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7" name=""/>
            <p:cNvGrpSpPr/>
            <p:nvPr/>
          </p:nvGrpSpPr>
          <p:grpSpPr>
            <a:xfrm>
              <a:off x="2298600" y="4046400"/>
              <a:ext cx="804240" cy="779400"/>
              <a:chOff x="2298600" y="4046400"/>
              <a:chExt cx="804240" cy="779400"/>
            </a:xfrm>
          </p:grpSpPr>
          <p:pic>
            <p:nvPicPr>
              <p:cNvPr id="20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622960" y="4352760"/>
                <a:ext cx="151200" cy="159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9" name=""/>
              <p:cNvGrpSpPr/>
              <p:nvPr/>
            </p:nvGrpSpPr>
            <p:grpSpPr>
              <a:xfrm>
                <a:off x="2298600" y="4046400"/>
                <a:ext cx="804240" cy="779400"/>
                <a:chOff x="2298600" y="4046400"/>
                <a:chExt cx="804240" cy="779400"/>
              </a:xfrm>
            </p:grpSpPr>
            <p:sp>
              <p:nvSpPr>
                <p:cNvPr id="210" name=""/>
                <p:cNvSpPr/>
                <p:nvPr/>
              </p:nvSpPr>
              <p:spPr>
                <a:xfrm rot="19755000">
                  <a:off x="2301840" y="4318920"/>
                  <a:ext cx="785880" cy="2278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rot="1604400">
                  <a:off x="2307600" y="4316400"/>
                  <a:ext cx="785520" cy="2278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5400000">
                  <a:off x="2310120" y="4321080"/>
                  <a:ext cx="779400" cy="2296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3213000" y="2193840"/>
              <a:ext cx="944640" cy="946080"/>
              <a:chOff x="3213000" y="2193840"/>
              <a:chExt cx="944640" cy="946080"/>
            </a:xfrm>
          </p:grpSpPr>
          <p:pic>
            <p:nvPicPr>
              <p:cNvPr id="21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3000" y="2193840"/>
                <a:ext cx="944640" cy="94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>
                <a:off x="3325680" y="2313000"/>
                <a:ext cx="685800" cy="46512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736800" y="2303640"/>
                <a:ext cx="300240" cy="231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754440" y="2556000"/>
                <a:ext cx="2970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8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3281400" y="2546280"/>
                <a:ext cx="314280" cy="23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9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3301920" y="2303640"/>
                <a:ext cx="265320" cy="24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3511440" y="2395440"/>
                <a:ext cx="316080" cy="316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3548160" y="2432160"/>
                <a:ext cx="230040" cy="160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Knowledge Acces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2760" y="1277640"/>
            <a:ext cx="4622760" cy="50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tch self-service/Software Repository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Integrated Search including knowledge base, javadocs, wiki, cod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Guide organization of documentation and inform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ortal access including support system and knowledgebase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View and manage customer profile, systems and application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ubscribe to relevant knowledge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Bug reports, new features, security bulletins, etc.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OEM/ISV Network integr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713120" y="1677960"/>
            <a:ext cx="3939120" cy="3884760"/>
            <a:chOff x="4713120" y="1677960"/>
            <a:chExt cx="3939120" cy="3884760"/>
          </a:xfrm>
        </p:grpSpPr>
        <p:sp>
          <p:nvSpPr>
            <p:cNvPr id="225" name=""/>
            <p:cNvSpPr/>
            <p:nvPr/>
          </p:nvSpPr>
          <p:spPr>
            <a:xfrm rot="15006000">
              <a:off x="5531040" y="2467440"/>
              <a:ext cx="2283120" cy="2325600"/>
            </a:xfrm>
            <a:prstGeom prst="blockArc">
              <a:avLst>
                <a:gd name="adj1" fmla="val 7452638"/>
                <a:gd name="adj2" fmla="val 3347362"/>
                <a:gd name="adj3" fmla="val 1528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6" name="" descr=""/>
            <p:cNvPicPr/>
            <p:nvPr/>
          </p:nvPicPr>
          <p:blipFill>
            <a:blip r:embed="rId1"/>
            <a:stretch/>
          </p:blipFill>
          <p:spPr>
            <a:xfrm>
              <a:off x="6502320" y="3457440"/>
              <a:ext cx="308160" cy="325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7" name=""/>
            <p:cNvGrpSpPr/>
            <p:nvPr/>
          </p:nvGrpSpPr>
          <p:grpSpPr>
            <a:xfrm>
              <a:off x="5842080" y="2836800"/>
              <a:ext cx="1632240" cy="1579680"/>
              <a:chOff x="5842080" y="2836800"/>
              <a:chExt cx="1632240" cy="1579680"/>
            </a:xfrm>
          </p:grpSpPr>
          <p:sp>
            <p:nvSpPr>
              <p:cNvPr id="228" name=""/>
              <p:cNvSpPr/>
              <p:nvPr/>
            </p:nvSpPr>
            <p:spPr>
              <a:xfrm rot="19755000">
                <a:off x="5848200" y="3389760"/>
                <a:ext cx="1595520" cy="46152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1604400">
                <a:off x="5860440" y="3384000"/>
                <a:ext cx="1595160" cy="46152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5400000">
                <a:off x="5866920" y="3393360"/>
                <a:ext cx="1579680" cy="46656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31" name="" descr=""/>
            <p:cNvPicPr/>
            <p:nvPr/>
          </p:nvPicPr>
          <p:blipFill>
            <a:blip r:embed="rId2"/>
            <a:stretch/>
          </p:blipFill>
          <p:spPr>
            <a:xfrm>
              <a:off x="5235480" y="4456080"/>
              <a:ext cx="478080" cy="4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5919480" y="186228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uide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el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36600" y="4854600"/>
              <a:ext cx="68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wnload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611680" y="46306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oftwa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030880" y="4191120"/>
              <a:ext cx="470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ofil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733880" y="3414600"/>
              <a:ext cx="918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ustomer Port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750200" y="3795840"/>
              <a:ext cx="642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133960" y="2664000"/>
              <a:ext cx="635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ubscrib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98240" y="1965240"/>
              <a:ext cx="50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ar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73280" y="40449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ac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1" name=""/>
            <p:cNvCxnSpPr/>
            <p:nvPr/>
          </p:nvCxnSpPr>
          <p:spPr>
            <a:xfrm>
              <a:off x="5684400" y="4563720"/>
              <a:ext cx="1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42" name=""/>
            <p:cNvSpPr/>
            <p:nvPr/>
          </p:nvSpPr>
          <p:spPr>
            <a:xfrm flipH="1">
              <a:off x="5308200" y="3633840"/>
              <a:ext cx="2206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flipV="1">
              <a:off x="5722920" y="2674800"/>
              <a:ext cx="138240" cy="15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6703920" y="2300040"/>
              <a:ext cx="0" cy="199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7340760" y="2539800"/>
              <a:ext cx="109440" cy="161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5662440" y="4403880"/>
              <a:ext cx="160560" cy="137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661080" y="4765680"/>
              <a:ext cx="0" cy="21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466040" y="4432320"/>
              <a:ext cx="135000" cy="15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772400" y="3913200"/>
              <a:ext cx="203040" cy="44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0" name="" descr=""/>
            <p:cNvPicPr/>
            <p:nvPr/>
          </p:nvPicPr>
          <p:blipFill>
            <a:blip r:embed="rId3"/>
            <a:stretch/>
          </p:blipFill>
          <p:spPr>
            <a:xfrm>
              <a:off x="6400800" y="502920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4"/>
            <a:stretch/>
          </p:blipFill>
          <p:spPr>
            <a:xfrm>
              <a:off x="8001000" y="380988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5"/>
            <a:stretch/>
          </p:blipFill>
          <p:spPr>
            <a:xfrm>
              <a:off x="7467480" y="449568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7818480" y="4738680"/>
              <a:ext cx="53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uppo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6"/>
            <a:stretch/>
          </p:blipFill>
          <p:spPr>
            <a:xfrm>
              <a:off x="7315200" y="200664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7"/>
            <a:stretch/>
          </p:blipFill>
          <p:spPr>
            <a:xfrm>
              <a:off x="6354720" y="1677960"/>
              <a:ext cx="600120" cy="6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8"/>
            <a:stretch/>
          </p:blipFill>
          <p:spPr>
            <a:xfrm>
              <a:off x="5165640" y="2163600"/>
              <a:ext cx="546120" cy="546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7" name=""/>
            <p:cNvGrpSpPr/>
            <p:nvPr/>
          </p:nvGrpSpPr>
          <p:grpSpPr>
            <a:xfrm>
              <a:off x="7807320" y="2616120"/>
              <a:ext cx="820800" cy="822240"/>
              <a:chOff x="7807320" y="2616120"/>
              <a:chExt cx="820800" cy="822240"/>
            </a:xfrm>
          </p:grpSpPr>
          <p:pic>
            <p:nvPicPr>
              <p:cNvPr id="25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807320" y="2616120"/>
                <a:ext cx="820800" cy="82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"/>
              <p:cNvSpPr/>
              <p:nvPr/>
            </p:nvSpPr>
            <p:spPr>
              <a:xfrm>
                <a:off x="7905600" y="2719440"/>
                <a:ext cx="595440" cy="40464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6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8263080" y="2711520"/>
                <a:ext cx="260280" cy="20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1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8277120" y="2930400"/>
                <a:ext cx="258840" cy="19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2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7866000" y="2922480"/>
                <a:ext cx="273240" cy="20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3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885080" y="2711520"/>
                <a:ext cx="230400" cy="20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4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8066160" y="2790720"/>
                <a:ext cx="274680" cy="27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5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8101080" y="2824200"/>
                <a:ext cx="198360" cy="135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66" name="" descr=""/>
            <p:cNvPicPr/>
            <p:nvPr/>
          </p:nvPicPr>
          <p:blipFill>
            <a:blip r:embed="rId16"/>
            <a:stretch/>
          </p:blipFill>
          <p:spPr>
            <a:xfrm>
              <a:off x="4713120" y="3281400"/>
              <a:ext cx="549360" cy="549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8T13:03:45Z</dcterms:created>
  <dc:creator>Shaun Connolly</dc:creator>
  <dc:description/>
  <dc:language>en-US</dc:language>
  <cp:lastModifiedBy>John Mazzitelli</cp:lastModifiedBy>
  <dcterms:modified xsi:type="dcterms:W3CDTF">2006-01-20T18:54:32Z</dcterms:modified>
  <cp:revision>444</cp:revision>
  <dc:subject/>
  <dc:title>JBoss Professional Open Source Methodology</dc:title>
</cp:coreProperties>
</file>