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0766-AFED-4E4B-8BCF-F9FCCFE16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9C27-A373-49CA-9DCB-5EB30A81F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FD97-2DEE-4A09-ABC4-A44640AB8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5343-55ED-431F-B6D2-D0ADD190F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5D81-8583-4296-9F9C-442CC8E30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9418-2692-492F-92C5-4C13E008D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0ACF-A35D-4A2A-A7D4-8FF86409E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406E-9CAE-4809-8C38-4370D5ED1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E0A6-CC10-41C3-BE59-F19AD2A63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D4DA-38CA-4A63-8706-9EB779979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64A4-8410-42E4-870E-4A08FE753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4E90-8D5C-4D73-85F6-94941430B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6AB78-37E9-4DC4-AA79-4F7B1EA00E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295280"/>
            <a:ext cx="6858000" cy="2210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1828800"/>
            <a:ext cx="3124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19520" y="304812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Graph based execution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1828800"/>
            <a:ext cx="1981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2819520"/>
            <a:ext cx="2608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rogram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371600"/>
            <a:ext cx="30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omain Specific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Ru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1981080"/>
            <a:ext cx="3808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71800" y="1981080"/>
            <a:ext cx="5335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P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1981080"/>
            <a:ext cx="60984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P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67080" y="1981080"/>
            <a:ext cx="9907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4120" y="1981080"/>
            <a:ext cx="45720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221160" y="1905120"/>
            <a:ext cx="112572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IoC-confi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212160" y="2362320"/>
            <a:ext cx="1063080" cy="520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Hibern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mapp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213240" y="3048120"/>
            <a:ext cx="32256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2438280"/>
            <a:ext cx="2895480" cy="30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Graph Oriented Programm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"/>
          <p:cNvGrpSpPr/>
          <p:nvPr/>
        </p:nvGrpSpPr>
        <p:grpSpPr>
          <a:xfrm>
            <a:off x="3276000" y="304920"/>
            <a:ext cx="1981080" cy="1143000"/>
            <a:chOff x="3276000" y="304920"/>
            <a:chExt cx="1981080" cy="1143000"/>
          </a:xfrm>
        </p:grpSpPr>
        <p:sp>
          <p:nvSpPr>
            <p:cNvPr id="237" name=""/>
            <p:cNvSpPr/>
            <p:nvPr/>
          </p:nvSpPr>
          <p:spPr>
            <a:xfrm flipH="1" rot="16200000">
              <a:off x="3694680" y="-113760"/>
              <a:ext cx="1143000" cy="1981080"/>
            </a:xfrm>
            <a:prstGeom prst="can">
              <a:avLst>
                <a:gd name="adj" fmla="val 14662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962520" y="762120"/>
              <a:ext cx="914400" cy="457200"/>
            </a:xfrm>
            <a:prstGeom prst="rightArrow">
              <a:avLst>
                <a:gd name="adj1" fmla="val 50000"/>
                <a:gd name="adj2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689280" y="457200"/>
              <a:ext cx="124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msg 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2819520" y="2743200"/>
            <a:ext cx="53316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352680" y="2438280"/>
            <a:ext cx="2057400" cy="60984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77b5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generatePd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10080" y="2743200"/>
            <a:ext cx="53352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1828800"/>
            <a:ext cx="1600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19520" y="1981080"/>
            <a:ext cx="609480" cy="4572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2133720" y="482760"/>
            <a:ext cx="1371240" cy="812160"/>
            <a:chOff x="2133720" y="482760"/>
            <a:chExt cx="1371240" cy="812160"/>
          </a:xfrm>
        </p:grpSpPr>
        <p:sp>
          <p:nvSpPr>
            <p:cNvPr id="246" name=""/>
            <p:cNvSpPr/>
            <p:nvPr/>
          </p:nvSpPr>
          <p:spPr>
            <a:xfrm>
              <a:off x="2133720" y="482760"/>
              <a:ext cx="1371240" cy="812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33720" y="482760"/>
              <a:ext cx="68544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2818800" y="482760"/>
              <a:ext cx="68580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213372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01536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2133720" y="457200"/>
            <a:ext cx="1371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execute</a:t>
            </a:r>
            <a:br>
              <a:rPr sz="1400"/>
            </a:b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513880" y="1295280"/>
            <a:ext cx="228600" cy="53352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5410080" y="609480"/>
            <a:ext cx="1165680" cy="609840"/>
            <a:chOff x="5410080" y="609480"/>
            <a:chExt cx="1165680" cy="609840"/>
          </a:xfrm>
        </p:grpSpPr>
        <p:sp>
          <p:nvSpPr>
            <p:cNvPr id="254" name=""/>
            <p:cNvSpPr/>
            <p:nvPr/>
          </p:nvSpPr>
          <p:spPr>
            <a:xfrm>
              <a:off x="5410080" y="609480"/>
              <a:ext cx="1143000" cy="60984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33480" y="609480"/>
              <a:ext cx="1142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comm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execu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3352680" y="1600200"/>
            <a:ext cx="2387880" cy="1905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3657600" y="2209680"/>
            <a:ext cx="1371600" cy="838080"/>
            <a:chOff x="3657600" y="2209680"/>
            <a:chExt cx="1371600" cy="838080"/>
          </a:xfrm>
        </p:grpSpPr>
        <p:sp>
          <p:nvSpPr>
            <p:cNvPr id="258" name=""/>
            <p:cNvSpPr/>
            <p:nvPr/>
          </p:nvSpPr>
          <p:spPr>
            <a:xfrm>
              <a:off x="4876920" y="2514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419720" y="22096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14800" y="259056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657600" y="26668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724640" y="274284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724640" y="259056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419720" y="297144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724640" y="2438280"/>
              <a:ext cx="30456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4267440" y="22856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572000" y="228564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267440" y="2666880"/>
              <a:ext cx="3045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4571640" y="281916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962520" y="2666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990720" y="1905120"/>
            <a:ext cx="76176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4920" y="26668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Analy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286000" y="1600200"/>
            <a:ext cx="533520" cy="1828800"/>
          </a:xfrm>
          <a:custGeom>
            <a:avLst/>
            <a:gdLst>
              <a:gd name="textAreaLeft" fmla="*/ 340920 w 533520"/>
              <a:gd name="textAreaRight" fmla="*/ 533880 w 5335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old.computer" descr=""/>
          <p:cNvPicPr/>
          <p:nvPr/>
        </p:nvPicPr>
        <p:blipFill>
          <a:blip r:embed="rId1"/>
          <a:stretch/>
        </p:blipFill>
        <p:spPr>
          <a:xfrm>
            <a:off x="1523880" y="3886200"/>
            <a:ext cx="2362320" cy="230652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 rot="10800000">
            <a:off x="4190760" y="3809880"/>
            <a:ext cx="609480" cy="609840"/>
          </a:xfrm>
          <a:custGeom>
            <a:avLst/>
            <a:gdLst>
              <a:gd name="textAreaLeft" fmla="*/ 0 w 609480"/>
              <a:gd name="textAreaRight" fmla="*/ 609840 w 609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0d4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c2" descr=""/>
          <p:cNvPicPr/>
          <p:nvPr/>
        </p:nvPicPr>
        <p:blipFill>
          <a:blip r:embed="rId2"/>
          <a:stretch/>
        </p:blipFill>
        <p:spPr>
          <a:xfrm>
            <a:off x="6095880" y="609480"/>
            <a:ext cx="1524240" cy="152424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1676520" y="457200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B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3352680" y="1600200"/>
            <a:ext cx="2387880" cy="3505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3657600" y="2209680"/>
            <a:ext cx="1371600" cy="838080"/>
            <a:chOff x="3657600" y="2209680"/>
            <a:chExt cx="1371600" cy="838080"/>
          </a:xfrm>
        </p:grpSpPr>
        <p:sp>
          <p:nvSpPr>
            <p:cNvPr id="280" name=""/>
            <p:cNvSpPr/>
            <p:nvPr/>
          </p:nvSpPr>
          <p:spPr>
            <a:xfrm>
              <a:off x="4876920" y="2514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419720" y="22096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114800" y="259056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657600" y="26668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724640" y="274284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724640" y="259056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419720" y="297144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724640" y="2438280"/>
              <a:ext cx="30456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4267440" y="22856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572000" y="228564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267440" y="2666880"/>
              <a:ext cx="3045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4571640" y="281916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962520" y="2666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352680" y="3733920"/>
            <a:ext cx="23623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tech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&lt;details 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990720" y="1905120"/>
            <a:ext cx="76176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315200" y="2819520"/>
            <a:ext cx="76212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04920" y="26668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Analy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705720" y="35812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Techn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Develo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286000" y="1600200"/>
            <a:ext cx="533520" cy="1828800"/>
          </a:xfrm>
          <a:custGeom>
            <a:avLst/>
            <a:gdLst>
              <a:gd name="textAreaLeft" fmla="*/ 340920 w 533520"/>
              <a:gd name="textAreaRight" fmla="*/ 533880 w 5335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6172200" y="1600200"/>
            <a:ext cx="533520" cy="3505320"/>
          </a:xfrm>
          <a:custGeom>
            <a:avLst/>
            <a:gdLst>
              <a:gd name="textAreaLeft" fmla="*/ 340920 w 533520"/>
              <a:gd name="textAreaRight" fmla="*/ 533880 w 533520"/>
              <a:gd name="textAreaTop" fmla="*/ 91080 h 3505320"/>
              <a:gd name="textAreaBottom" fmla="*/ 3414240 h 3505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mainframe" descr=""/>
          <p:cNvPicPr/>
          <p:nvPr/>
        </p:nvPicPr>
        <p:blipFill>
          <a:blip r:embed="rId1"/>
          <a:stretch/>
        </p:blipFill>
        <p:spPr>
          <a:xfrm>
            <a:off x="1219320" y="4114800"/>
            <a:ext cx="2000160" cy="223524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 rot="10800000">
            <a:off x="3276360" y="5333760"/>
            <a:ext cx="609480" cy="609480"/>
          </a:xfrm>
          <a:custGeom>
            <a:avLst/>
            <a:gdLst>
              <a:gd name="textAreaLeft" fmla="*/ 0 w 609480"/>
              <a:gd name="textAreaRight" fmla="*/ 609840 w 609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0d4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505320" y="3505320"/>
            <a:ext cx="2057400" cy="0"/>
          </a:xfrm>
          <a:prstGeom prst="line">
            <a:avLst/>
          </a:prstGeom>
          <a:ln w="255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tretch/>
        </p:blipFill>
        <p:spPr>
          <a:xfrm>
            <a:off x="6858000" y="304920"/>
            <a:ext cx="1447920" cy="140004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1219320" y="487692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B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438280" y="1219320"/>
            <a:ext cx="4724640" cy="3276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Executable software artifa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95480" y="1905120"/>
            <a:ext cx="129564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Doma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av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lass fi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95480" y="3352680"/>
            <a:ext cx="144792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Scri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ant scrip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1905120"/>
            <a:ext cx="228600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Executab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Busin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PDL XML files +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java class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3352680"/>
            <a:ext cx="160020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webap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onfigur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48520" y="3352680"/>
            <a:ext cx="38088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67480" y="1600200"/>
            <a:ext cx="129564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7480" y="2590920"/>
            <a:ext cx="129564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160020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2590920"/>
            <a:ext cx="129528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25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6629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29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2057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057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4114800"/>
            <a:ext cx="30492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105520" y="4114800"/>
            <a:ext cx="30456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29000" y="411480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1523880" y="762120"/>
            <a:ext cx="1295280" cy="914400"/>
            <a:chOff x="1523880" y="762120"/>
            <a:chExt cx="1295280" cy="914400"/>
          </a:xfrm>
        </p:grpSpPr>
        <p:sp>
          <p:nvSpPr>
            <p:cNvPr id="79" name=""/>
            <p:cNvSpPr/>
            <p:nvPr/>
          </p:nvSpPr>
          <p:spPr>
            <a:xfrm>
              <a:off x="1523880" y="762120"/>
              <a:ext cx="129528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523880" y="1143360"/>
              <a:ext cx="129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257800" y="762120"/>
            <a:ext cx="1371240" cy="914400"/>
            <a:chOff x="5257800" y="762120"/>
            <a:chExt cx="1371240" cy="914400"/>
          </a:xfrm>
        </p:grpSpPr>
        <p:sp>
          <p:nvSpPr>
            <p:cNvPr id="82" name=""/>
            <p:cNvSpPr/>
            <p:nvPr/>
          </p:nvSpPr>
          <p:spPr>
            <a:xfrm>
              <a:off x="5257800" y="762120"/>
              <a:ext cx="1371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57800" y="1143360"/>
              <a:ext cx="137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819520" y="838080"/>
            <a:ext cx="2438280" cy="152280"/>
            <a:chOff x="2819520" y="838080"/>
            <a:chExt cx="2438280" cy="152280"/>
          </a:xfrm>
        </p:grpSpPr>
        <p:sp>
          <p:nvSpPr>
            <p:cNvPr id="85" name=""/>
            <p:cNvSpPr/>
            <p:nvPr/>
          </p:nvSpPr>
          <p:spPr>
            <a:xfrm>
              <a:off x="2819520" y="83808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124080" y="91440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819160" y="1447920"/>
            <a:ext cx="2438280" cy="152280"/>
            <a:chOff x="2819160" y="1447920"/>
            <a:chExt cx="2438280" cy="152280"/>
          </a:xfrm>
        </p:grpSpPr>
        <p:sp>
          <p:nvSpPr>
            <p:cNvPr id="88" name=""/>
            <p:cNvSpPr/>
            <p:nvPr/>
          </p:nvSpPr>
          <p:spPr>
            <a:xfrm flipH="1">
              <a:off x="4952880" y="144792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2819160" y="152424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3505320" y="60948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eavingTransi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121932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838080" y="3809880"/>
            <a:ext cx="2819520" cy="838440"/>
            <a:chOff x="838080" y="3809880"/>
            <a:chExt cx="2819520" cy="838440"/>
          </a:xfrm>
        </p:grpSpPr>
        <p:sp>
          <p:nvSpPr>
            <p:cNvPr id="93" name=""/>
            <p:cNvSpPr/>
            <p:nvPr/>
          </p:nvSpPr>
          <p:spPr>
            <a:xfrm>
              <a:off x="838080" y="3809880"/>
              <a:ext cx="2819520" cy="838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8080" y="419112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14400" y="426708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990720" y="4952880"/>
            <a:ext cx="2590200" cy="914400"/>
            <a:chOff x="990720" y="4952880"/>
            <a:chExt cx="2590200" cy="914400"/>
          </a:xfrm>
        </p:grpSpPr>
        <p:sp>
          <p:nvSpPr>
            <p:cNvPr id="97" name=""/>
            <p:cNvSpPr/>
            <p:nvPr/>
          </p:nvSpPr>
          <p:spPr>
            <a:xfrm>
              <a:off x="990720" y="4952880"/>
              <a:ext cx="2514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90720" y="5333760"/>
              <a:ext cx="2514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66680" y="5410080"/>
              <a:ext cx="25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tak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981080" y="2286000"/>
            <a:ext cx="4343040" cy="914400"/>
            <a:chOff x="1981080" y="2286000"/>
            <a:chExt cx="4343040" cy="914400"/>
          </a:xfrm>
        </p:grpSpPr>
        <p:grpSp>
          <p:nvGrpSpPr>
            <p:cNvPr id="101" name=""/>
            <p:cNvGrpSpPr/>
            <p:nvPr/>
          </p:nvGrpSpPr>
          <p:grpSpPr>
            <a:xfrm>
              <a:off x="1981080" y="2286000"/>
              <a:ext cx="1599840" cy="914400"/>
              <a:chOff x="1981080" y="2286000"/>
              <a:chExt cx="1599840" cy="914400"/>
            </a:xfrm>
          </p:grpSpPr>
          <p:sp>
            <p:nvSpPr>
              <p:cNvPr id="102" name=""/>
              <p:cNvSpPr/>
              <p:nvPr/>
            </p:nvSpPr>
            <p:spPr>
              <a:xfrm>
                <a:off x="1981080" y="2286000"/>
                <a:ext cx="155304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Execu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981080" y="2666880"/>
                <a:ext cx="1553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027880" y="2743200"/>
                <a:ext cx="15530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5029200" y="2286000"/>
              <a:ext cx="1294920" cy="914400"/>
              <a:chOff x="5029200" y="2286000"/>
              <a:chExt cx="1294920" cy="914400"/>
            </a:xfrm>
          </p:grpSpPr>
          <p:sp>
            <p:nvSpPr>
              <p:cNvPr id="106" name=""/>
              <p:cNvSpPr/>
              <p:nvPr/>
            </p:nvSpPr>
            <p:spPr>
              <a:xfrm>
                <a:off x="5029200" y="2286000"/>
                <a:ext cx="129492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Nod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029200" y="2667240"/>
                <a:ext cx="1294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3581280" y="2743200"/>
              <a:ext cx="30492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86200" y="2819520"/>
              <a:ext cx="1143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00400" y="2514600"/>
              <a:ext cx="1838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5415120" y="4343400"/>
            <a:ext cx="2662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724280" y="3809880"/>
            <a:ext cx="2666880" cy="838080"/>
            <a:chOff x="4724280" y="3809880"/>
            <a:chExt cx="2666880" cy="838080"/>
          </a:xfrm>
        </p:grpSpPr>
        <p:sp>
          <p:nvSpPr>
            <p:cNvPr id="113" name=""/>
            <p:cNvSpPr/>
            <p:nvPr/>
          </p:nvSpPr>
          <p:spPr>
            <a:xfrm>
              <a:off x="4724280" y="3809880"/>
              <a:ext cx="266220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xec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24280" y="4190760"/>
              <a:ext cx="2662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0240" y="4267080"/>
              <a:ext cx="259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event(String event) : 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90720" y="1828800"/>
            <a:ext cx="6705360" cy="152388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971800" y="457200"/>
            <a:ext cx="2819520" cy="838080"/>
            <a:chOff x="2971800" y="457200"/>
            <a:chExt cx="2819520" cy="838080"/>
          </a:xfrm>
        </p:grpSpPr>
        <p:sp>
          <p:nvSpPr>
            <p:cNvPr id="118" name=""/>
            <p:cNvSpPr/>
            <p:nvPr/>
          </p:nvSpPr>
          <p:spPr>
            <a:xfrm>
              <a:off x="2971800" y="457200"/>
              <a:ext cx="281952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71800" y="83808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048120" y="91404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219320" y="1905120"/>
            <a:ext cx="1447560" cy="838080"/>
            <a:chOff x="1219320" y="1905120"/>
            <a:chExt cx="1447560" cy="838080"/>
          </a:xfrm>
        </p:grpSpPr>
        <p:sp>
          <p:nvSpPr>
            <p:cNvPr id="122" name=""/>
            <p:cNvSpPr/>
            <p:nvPr/>
          </p:nvSpPr>
          <p:spPr>
            <a:xfrm>
              <a:off x="12193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193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582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819520" y="1905120"/>
            <a:ext cx="1447560" cy="838080"/>
            <a:chOff x="2819520" y="1905120"/>
            <a:chExt cx="1447560" cy="838080"/>
          </a:xfrm>
        </p:grpSpPr>
        <p:sp>
          <p:nvSpPr>
            <p:cNvPr id="126" name=""/>
            <p:cNvSpPr/>
            <p:nvPr/>
          </p:nvSpPr>
          <p:spPr>
            <a:xfrm>
              <a:off x="28195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Deci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195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84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419720" y="1905120"/>
            <a:ext cx="1447560" cy="838080"/>
            <a:chOff x="4419720" y="1905120"/>
            <a:chExt cx="1447560" cy="838080"/>
          </a:xfrm>
        </p:grpSpPr>
        <p:sp>
          <p:nvSpPr>
            <p:cNvPr id="130" name=""/>
            <p:cNvSpPr/>
            <p:nvPr/>
          </p:nvSpPr>
          <p:spPr>
            <a:xfrm>
              <a:off x="44197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4197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586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6019920" y="1905120"/>
            <a:ext cx="1447560" cy="838080"/>
            <a:chOff x="6019920" y="1905120"/>
            <a:chExt cx="1447560" cy="838080"/>
          </a:xfrm>
        </p:grpSpPr>
        <p:sp>
          <p:nvSpPr>
            <p:cNvPr id="134" name=""/>
            <p:cNvSpPr/>
            <p:nvPr/>
          </p:nvSpPr>
          <p:spPr>
            <a:xfrm>
              <a:off x="60199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nd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199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0588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057400" y="1676520"/>
            <a:ext cx="457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57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055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29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1295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14800" y="1523880"/>
            <a:ext cx="4572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2971800"/>
            <a:ext cx="32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An example process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666880" y="2286000"/>
            <a:ext cx="175284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304920"/>
            <a:ext cx="1676520" cy="1143000"/>
          </a:xfrm>
          <a:custGeom>
            <a:avLst/>
            <a:gdLst/>
            <a:ahLst/>
            <a:rect l="l" t="t" r="r" b="b"/>
            <a:pathLst>
              <a:path w="1440" h="288">
                <a:moveTo>
                  <a:pt x="0" y="288"/>
                </a:moveTo>
                <a:cubicBezTo>
                  <a:pt x="276" y="284"/>
                  <a:pt x="552" y="280"/>
                  <a:pt x="720" y="240"/>
                </a:cubicBezTo>
                <a:cubicBezTo>
                  <a:pt x="888" y="200"/>
                  <a:pt x="888" y="88"/>
                  <a:pt x="1008" y="48"/>
                </a:cubicBezTo>
                <a:cubicBezTo>
                  <a:pt x="1128" y="8"/>
                  <a:pt x="1284" y="4"/>
                  <a:pt x="144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743200"/>
            <a:ext cx="152280" cy="9144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429000" y="1219320"/>
            <a:ext cx="4952880" cy="4267080"/>
            <a:chOff x="3429000" y="1219320"/>
            <a:chExt cx="4952880" cy="4267080"/>
          </a:xfrm>
        </p:grpSpPr>
        <p:grpSp>
          <p:nvGrpSpPr>
            <p:cNvPr id="149" name=""/>
            <p:cNvGrpSpPr/>
            <p:nvPr/>
          </p:nvGrpSpPr>
          <p:grpSpPr>
            <a:xfrm>
              <a:off x="3429000" y="1219320"/>
              <a:ext cx="4952880" cy="4267080"/>
              <a:chOff x="3429000" y="1219320"/>
              <a:chExt cx="4952880" cy="4267080"/>
            </a:xfrm>
          </p:grpSpPr>
          <p:sp>
            <p:nvSpPr>
              <p:cNvPr id="150" name=""/>
              <p:cNvSpPr/>
              <p:nvPr/>
            </p:nvSpPr>
            <p:spPr>
              <a:xfrm>
                <a:off x="64008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95288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94360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87692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4290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32448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32448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31520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48640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50292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481824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5740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1905120" y="1219320"/>
            <a:ext cx="4952880" cy="4267080"/>
            <a:chOff x="1905120" y="1219320"/>
            <a:chExt cx="4952880" cy="4267080"/>
          </a:xfrm>
        </p:grpSpPr>
        <p:grpSp>
          <p:nvGrpSpPr>
            <p:cNvPr id="163" name=""/>
            <p:cNvGrpSpPr/>
            <p:nvPr/>
          </p:nvGrpSpPr>
          <p:grpSpPr>
            <a:xfrm>
              <a:off x="1905120" y="1219320"/>
              <a:ext cx="4952880" cy="4267080"/>
              <a:chOff x="1905120" y="1219320"/>
              <a:chExt cx="4952880" cy="4267080"/>
            </a:xfrm>
          </p:grpSpPr>
          <p:sp>
            <p:nvSpPr>
              <p:cNvPr id="164" name=""/>
              <p:cNvSpPr/>
              <p:nvPr/>
            </p:nvSpPr>
            <p:spPr>
              <a:xfrm>
                <a:off x="48769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42900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41972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35304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90512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8006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80060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79132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96252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35053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329436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352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685800" y="22096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tak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transition ‘yes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MyStats.up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43200" y="3200400"/>
            <a:ext cx="914400" cy="1522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553080" y="15238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enter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Node ‘deliver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Deliveries.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6629040" y="274320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3505320" y="1447920"/>
            <a:ext cx="4876200" cy="3886200"/>
            <a:chOff x="3505320" y="1447920"/>
            <a:chExt cx="4876200" cy="3886200"/>
          </a:xfrm>
        </p:grpSpPr>
        <p:sp>
          <p:nvSpPr>
            <p:cNvPr id="181" name=""/>
            <p:cNvSpPr/>
            <p:nvPr/>
          </p:nvSpPr>
          <p:spPr>
            <a:xfrm>
              <a:off x="640080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76560" y="144792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tartSale : 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943600" y="205740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76560" y="2438280"/>
              <a:ext cx="2057040" cy="38124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: F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0532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ndBill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2448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getQuotes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502884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432320" y="2819520"/>
              <a:ext cx="76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bil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569280" y="2819520"/>
              <a:ext cx="100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shipp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0532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waitForMoney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32448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lectTransporter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9568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9568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31520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1520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1447920" y="1371600"/>
            <a:ext cx="175248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root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bill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shipp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00400" y="1676520"/>
            <a:ext cx="1676520" cy="914400"/>
          </a:xfrm>
          <a:custGeom>
            <a:avLst/>
            <a:gdLst/>
            <a:ahLst/>
            <a:rect l="l" t="t" r="r" b="b"/>
            <a:pathLst>
              <a:path w="1056" h="576">
                <a:moveTo>
                  <a:pt x="0" y="0"/>
                </a:moveTo>
                <a:cubicBezTo>
                  <a:pt x="196" y="12"/>
                  <a:pt x="392" y="24"/>
                  <a:pt x="528" y="96"/>
                </a:cubicBezTo>
                <a:cubicBezTo>
                  <a:pt x="664" y="168"/>
                  <a:pt x="728" y="352"/>
                  <a:pt x="816" y="432"/>
                </a:cubicBezTo>
                <a:cubicBezTo>
                  <a:pt x="904" y="512"/>
                  <a:pt x="980" y="544"/>
                  <a:pt x="1056" y="576"/>
                </a:cubicBezTo>
              </a:path>
            </a:pathLst>
          </a:custGeom>
          <a:noFill/>
          <a:ln w="25560">
            <a:solidFill>
              <a:srgbClr val="b2b2b2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91120" y="2971800"/>
            <a:ext cx="2133360" cy="609480"/>
          </a:xfrm>
          <a:custGeom>
            <a:avLst/>
            <a:gdLst/>
            <a:ahLst/>
            <a:rect l="l" t="t" r="r" b="b"/>
            <a:pathLst>
              <a:path w="1440" h="384">
                <a:moveTo>
                  <a:pt x="0" y="0"/>
                </a:moveTo>
                <a:cubicBezTo>
                  <a:pt x="60" y="40"/>
                  <a:pt x="120" y="80"/>
                  <a:pt x="288" y="96"/>
                </a:cubicBezTo>
                <a:cubicBezTo>
                  <a:pt x="456" y="112"/>
                  <a:pt x="816" y="48"/>
                  <a:pt x="1008" y="96"/>
                </a:cubicBezTo>
                <a:cubicBezTo>
                  <a:pt x="1200" y="144"/>
                  <a:pt x="1320" y="264"/>
                  <a:pt x="1440" y="38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1828440" y="1981080"/>
            <a:ext cx="30492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90920" y="1981080"/>
            <a:ext cx="30456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762120"/>
            <a:ext cx="4038480" cy="2514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: Process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133720" y="2946240"/>
            <a:ext cx="1371600" cy="1549440"/>
          </a:xfrm>
          <a:custGeom>
            <a:avLst/>
            <a:gdLst/>
            <a:ahLst/>
            <a:rect l="l" t="t" r="r" b="b"/>
            <a:pathLst>
              <a:path w="864" h="1072">
                <a:moveTo>
                  <a:pt x="0" y="16"/>
                </a:moveTo>
                <a:cubicBezTo>
                  <a:pt x="32" y="8"/>
                  <a:pt x="64" y="0"/>
                  <a:pt x="96" y="64"/>
                </a:cubicBezTo>
                <a:cubicBezTo>
                  <a:pt x="128" y="128"/>
                  <a:pt x="160" y="272"/>
                  <a:pt x="192" y="400"/>
                </a:cubicBezTo>
                <a:cubicBezTo>
                  <a:pt x="224" y="528"/>
                  <a:pt x="232" y="728"/>
                  <a:pt x="288" y="832"/>
                </a:cubicBezTo>
                <a:cubicBezTo>
                  <a:pt x="344" y="936"/>
                  <a:pt x="432" y="984"/>
                  <a:pt x="528" y="1024"/>
                </a:cubicBezTo>
                <a:cubicBezTo>
                  <a:pt x="624" y="1064"/>
                  <a:pt x="744" y="1068"/>
                  <a:pt x="864" y="1072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1828800" y="990720"/>
            <a:ext cx="5486400" cy="1371600"/>
            <a:chOff x="1828800" y="990720"/>
            <a:chExt cx="5486400" cy="1371600"/>
          </a:xfrm>
        </p:grpSpPr>
        <p:sp>
          <p:nvSpPr>
            <p:cNvPr id="206" name=""/>
            <p:cNvSpPr/>
            <p:nvPr/>
          </p:nvSpPr>
          <p:spPr>
            <a:xfrm>
              <a:off x="1828800" y="990720"/>
              <a:ext cx="5257800" cy="1371600"/>
            </a:xfrm>
            <a:prstGeom prst="leftRightArrow">
              <a:avLst>
                <a:gd name="adj1" fmla="val 64583"/>
                <a:gd name="adj2" fmla="val 59896"/>
              </a:avLst>
            </a:prstGeom>
            <a:solidFill>
              <a:srgbClr val="b0d4d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981080" y="1371960"/>
              <a:ext cx="17528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Programming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angu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7339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ibraries 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5627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BPM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Sui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1295280" y="3505320"/>
            <a:ext cx="5791320" cy="2729880"/>
            <a:chOff x="1295280" y="3505320"/>
            <a:chExt cx="5791320" cy="2729880"/>
          </a:xfrm>
        </p:grpSpPr>
        <p:sp>
          <p:nvSpPr>
            <p:cNvPr id="211" name=""/>
            <p:cNvSpPr/>
            <p:nvPr/>
          </p:nvSpPr>
          <p:spPr>
            <a:xfrm>
              <a:off x="2971800" y="5562720"/>
              <a:ext cx="3733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3124080" y="3505320"/>
              <a:ext cx="0" cy="220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352680" y="3505320"/>
              <a:ext cx="3353040" cy="1828800"/>
            </a:xfrm>
            <a:prstGeom prst="rect">
              <a:avLst/>
            </a:prstGeom>
            <a:solidFill>
              <a:srgbClr val="b0d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52680" y="3505320"/>
              <a:ext cx="3276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based languages / 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Oriented Programm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809880" y="41911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24280" y="46483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191120" y="44960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05520" y="49532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410080" y="5715000"/>
              <a:ext cx="1676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Application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Doma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295280" y="487692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Programming languag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95280" y="428328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Libraries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95280" y="3810240"/>
              <a:ext cx="175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BPM Sui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48120" y="518184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48120" y="457200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048120" y="396252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743200" y="380880"/>
            <a:ext cx="3521160" cy="18288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Service Orchestration Eng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(e.g. BP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23880" y="2438280"/>
            <a:ext cx="5715000" cy="60984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nterprise Service Bus (ES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&lt;XML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0968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733920" y="3276720"/>
            <a:ext cx="121896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5780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19720" y="762120"/>
            <a:ext cx="1752480" cy="137160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/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195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4340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913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1447920"/>
            <a:ext cx="990720" cy="990360"/>
          </a:xfrm>
          <a:custGeom>
            <a:avLst/>
            <a:gdLst/>
            <a:ahLst/>
            <a:rect l="l" t="t" r="r" b="b"/>
            <a:pathLst>
              <a:path w="688" h="624">
                <a:moveTo>
                  <a:pt x="688" y="0"/>
                </a:moveTo>
                <a:cubicBezTo>
                  <a:pt x="456" y="20"/>
                  <a:pt x="224" y="40"/>
                  <a:pt x="112" y="144"/>
                </a:cubicBezTo>
                <a:cubicBezTo>
                  <a:pt x="0" y="248"/>
                  <a:pt x="8" y="436"/>
                  <a:pt x="16" y="62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07:47:36Z</dcterms:created>
  <dc:creator>Tom Baeyens</dc:creator>
  <dc:description/>
  <dc:language>en-US</dc:language>
  <cp:lastModifiedBy>Tom Baeyens</cp:lastModifiedBy>
  <dcterms:modified xsi:type="dcterms:W3CDTF">2006-03-29T14:09:38Z</dcterms:modified>
  <cp:revision>39</cp:revision>
  <dc:subject/>
  <dc:title>PowerPoint Presentation</dc:title>
</cp:coreProperties>
</file>